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40FD9-EB1E-4947-9CEE-83DC90E6B112}"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5BFF9-E6D4-4E94-913D-4FBDF929A0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BE058-86DF-43E1-A226-4D21A753AB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e logiciels malveillants dans les systèmes informatiques d'une institution financière de renom. À cet égard, il faut d’abord identifier les infractions pertinentes et se demander si ces infractions sont visées dans le droit inter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en particulier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 comportement de l’agent des services de répression qui a obtenu des codes pour accéder à un système informatique.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10E44-C74C-487B-8A08-EA825BBD99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DB4AB-B95D-4FE5-967F-2A60A5E9D8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I (droit matériel).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5FF15-276D-4984-9747-0426FCDD80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aux participants les questions qui se posent au regard du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fait que la politique du prestataire de services de messagerie électronique prévoit que la durée de conservation des données est limitée à 7 jours. Les participants sont invites à recenser les mesures permettant d’empêcher que le processus d'enquête soit mis en éche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Concernant la deuxième partie de cette question, les participants doivent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les tiers qui ont été contactés par un compte de messagerie électronique particulier. Les participants sont invités à identifier la procédure qui permettra d’obtenir ces information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3E2FE-B88A-48DB-8AA5-3FE07F85E8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0FF14-FE1C-41EF-A0A7-1EE72653FA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e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746E4-35D7-46B8-85E4-4A249580B9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aux participants les questions qui se posent au regard des autres formes de coopé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obtention des informations mentionnées ci-dessus. Il serait bon que le formateur précise qu'il existe sans doute plusieurs façons d'accéder à ces données et de les obtenir mais que les participants sont tenus d'identifier la mesure la plus rap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s des personnes qui ont consenti volontairement à les communiquer. Le formateur devrait à nouveau souligner que les participants doivent identifier la façon la plus rapide d'obtenir ces messages électronique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E576E-DAB3-4D0B-B87E-739B5119CF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e à expliquer les faits relatifs à la Partie IV (coopération international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rès un interrogatoire, on apprend qu'un système informatique utilisé par DarkHacker est situé dans un autre pays, à savoir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l'arrestation de Boris Smith n'a pas été rendue publique et que les services de répression n’ont aucune raison de penser que les données informatiques stockées sur le système informatique de DarkHacker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utre, le formateur doit expliquer que Boris Smith a averti les services de répression qu’une communication ciblée aura lieu le lendemain à 17 heur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3C1C2-602D-4DD6-A653-D5162672BB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s mesures qui peuvent être prises pour s'assurer que le prestataire de services situé dans une autre juridiction conserve les données relatives au compte de messagerie spécifi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es mesures visant à identifier d'autres prestataires de services impliqués dans la transmission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es mesures qui peuvent être prises pour obtenir des données informatiques stockées dans une autre juri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atrième question porte sur des mesures visant à sécuriser et localiser avec certitude l'emplacement du client DarkHacker qui participera à une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4416C-4E90-4F3D-8B8C-AF8CD7DB98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matériel de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9535E-6C00-47B4-9C46-DD521C40A9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session comporte cinq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 présente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 concerne le droit matéri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II concerne le droit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IV porte sur d'autres formes de coopération offerte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ie V traite de l'entraide judiciair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80936-C7C9-45B4-A733-5E6710F366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B06B6-C383-425B-8BE7-6501A7CD50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est invité à expliquer les faits relatifs à la Partie II (droit matériel).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9967E7-B2B1-4060-B7AC-4E1E74A77E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e piratage des lecteurs de données et l'installation d’un logiciel malveillant dans les systèmes informatiques d'une institution financière de renom. Il faut d’abord identifier les infractions pertinentes et se demander ces infractions sont visées dans le droit interne.</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E7B82-E183-4C66-AFD1-DCABDB7EB6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montre que des lecteurs de données de systèmes informatiques ont été piratés et qu’un logiciel malveillant a été installé sur des systèmes informatiques. L'effet du logiciel malveillant se limite à l'augmentation de la taille du curseur de la souris.</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F81AA-9EA9-445B-90F1-0878C2337A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2 de la Convention de Budapest qui  inclut l’accès intentionnel et sans droit à tout ou partie d'un système informatique dans une intention délictueuse.</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7B433-E3FC-49E1-877A-BA87232E01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l'article 5 de la Convention de Budapest qui inclut l'entrave grave, intentionnelle et sans droit, au fonctionnement d'un système informatique, par l’introduction de données informatique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34AC3-59B0-4171-95D0-2CB60DE34C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accès illégal devrait être retenue. Cette diapositive montre que certains faits aident à déterminer que le comportement relève de l'article 2 de la Convention de Budapest.</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81A52-1BC2-46EF-A4C5-1E50BC31FF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pourquoi l'infraction d’atteinte à l’intégrité du système (article 5 de la Convention de Budapest) n’est pas reconnue même s'il est évident que DarkHacker fournit des services de ce type.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CD3EA-9ED3-4032-BEE4-0EE9EDAF8D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infraction pénale qui est commise sur DarkHacker, notamment la vente du logiciel de traduction sur le forum. Il incombe aux participants d’identifier les infractions pertinentes et de justifier leur réponse.</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385EB-F42F-4356-AE64-04F19775FD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pris en compte pour répondre correctement à la question. Il est important de souligner en particulier que le logiciel vendu est un logiciel à double usage. Il s’agit essentiellement d'un logiciel de traduction, mais 1) il est principalement conçu pour pirater les ordinateurs et 2) il est commercialisé dans le but d’aider ceux qui cherchent à commettre l’infraction d'accès illégal.</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3D884-442E-448D-AC22-2CF69BFC21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présenter aux participants les objectifs de la présente session et les informer que cette session avancée se présente sous la forme d'une étude de cas détaillée et qu’ils sont invites à y participer activement  et à répondre aux questions. L'objectif principal est de mieux connaître et d’étudier de plus près les dispositions relatives au droit materiel, au droit procedural et à la coopération internationale de la Convention de Budapest.</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A1046-CFBA-40DD-BB26-0A9984BFC3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parties pertinentes de l'article 6, qui concerne l’incrimination d’un comport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noter que l'article 6 concerne non seulement les dispositifs mais aussi les programmes informatiques tels que le logiciel de trad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vient également de souligner que les mesures suivantes sont des éléments constitutifs d’une infrac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v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a diffu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les autres moyens de mise à disposi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serait bon que le formateur explique la raison d'être de l'utilisation du mot « principalement », qui montre que la Convention de Budapest n'a pas l'intention d'exclure l'utilisation abusive de programmes à double usage, comme ceux qui sont vendus sur DarkHacker, du champ d'application de l'infraction.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752D5-7FEF-4E55-A162-4AB9552CC0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infraction d'utilisation abusive de dispositifs (article 6 de la Convention de Budapest) doit être retenue. Cette diapositive montre que certains éléments des faits qui permettent de déterminer que la conduite relèvent de l'article 6 de la Convention de Budapest.</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1E313-1D0A-43F6-823C-67E8E53629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vise en particulier à lancer le débat sur la question de savoir si le comportement des agents des services de répression peut constituer une infraction au sens de l'article 6 de la Convention de Budapest.  En particulier, les participants doivent se rendre compte que ce comportement est lié à l'article 6, paragraphe 1, point a) 2), qui comprend l’obtention pour utilisation de codes d'accès ou de données similaires qui permettent l'accès à un système informatique. Les participants doivent noter que ledit comportement aurait été une infraction s’il avait été commis dans l'intention de commettre une infraction au sens des articles 2 à 5 et ne constituerait pas un acte criminel s’il avait été commis sans cette intention (article 6, paragraphe 2). En outre, la Convention énonce que les actes visés à l'article 6 ne constituent une infraction que s'ils sont commis « sans droit », Or il est possible que l'opération “secrète” ait une base juridique ou administ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on peut aussi noter que l’achat qui constitue la base de ces actes est un achat « aux fins d’utilisation » et non un achat général aux fins de l'identification des personnes qui exploitent un site internet pour des activités criminelle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21602-66E5-4A7A-83AD-54C9888032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ontre les faits pertinents qui doivent être examinés pour répondre correctement à la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a diapositive souligne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services de répression ont acheté des codes d’accè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n'ont pas été achetés aux fins d’utilis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codes d'accès ont été achetés dans le but d'identifier les personnes qui exploitent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participants peuvent également examiner si les actes ont été commis « sans droit » pour déterminer si l'opération “secrète” est autorisée par le droit interne.</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B6A6C-8847-4591-8816-D14B9408D1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6 de la Convention de Budapest qui inclut intentionnellement et sans droit l’obtention aux fins d’utilisation d’un code d'accès permet d’accéder à l'ensemble ou une partie d'un système informatique dans l'intention de commettre une infraction établie aux articles 2 à 5.</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FC84F0-993C-49A9-A1DA-D8ADBE6C55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e comportement des services de répression n’est pas un abus de dispositifs (article 6 de la Convention de Budapest) ou une autre infraction correspondant à la Convention de Budapest. Cette diapositive montre les éléments des faits qui permettent de déterminer que la conduite ne relève pas du champ d'application de l'article 6 de la Convention de Budapest.</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107C3-64A6-4613-976E-2150C15F09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ispositions de droit procedural de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0A075-4471-441C-B957-19AF1E285D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II (pouvoirs procéduraux).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 formateur doit insister sur le fait que le prestataire de services de messagerie électronique a son siège et des centres de données dans le pays où l'enquête est menée. Il doit également préciser que la politique de ce prestataire prévoit une période de rétention limitée de 7 jours et que toutes les données (données de contenu et données de trafic) seront supprimées après cette période, sauf si ces données doivent être conservées dans le cadre d’une ordonnanc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bjectif du service de répression à ce stade devrait également être clarifié, notamment la question de savoir s’il souhaite obtenir des informations pour identifier l’agent qui a envoyé le message électronique, Cela permettra aux participants de déterminer les pouvoirs procéduraux qui conviennent et les mesures nécessaires à prendre pour mener à bien l'étude de cas.</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33DB9-E369-4C7E-BDF6-1F0B1D9014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tenu d'expliquer les faits relatifs à la Partie III (pouvoirs procéduraux) dans cette diapositiv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rticulier, le formateur doit insister sur le fait que le prestataire de services de messagerie électronique a son siège dans le pays où l'enquête est menée. Le formateur doit également préciser que le fournisseur de services de messagerie électronique dispose d'une période de rétention limitée de 7 jours et doit supprimer  toutes les données (données de contenu et données de trafic) après cette période, sauf si ces données doivent être conservées conformément à une ordonnance d’un tribu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bjectif des services de répression à ce stade devrait également être clarifié.  En particulier, vous souhaitez obtenir des informations pour identifier l’agent qui vous a envoyé le courriel, Ce qui permettra aux participants à déterminer les pouvoirs procéduraux qui conviennent et les mesures nécessaires à prendre pour résoudre l'étude de cas.</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848831-320A-41D4-9094-35AA416FDF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concerne le fait que la politique du prestataire de services de messagerie électronique prévoit que la durée de conservation des données est limitée à 7 jours. Les participants sont tenus de recenser les mesures qui permettent d’empêcher que le processus d'enquête soit mis en échec.</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F9012-F1C5-4115-81BB-CABC4C6ABE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présente l'étude de cas qui constitue la base du cours. Les participants prendront connaissance des faits relatifs à cette étude ainsi que des questions qui l'accompagnent. À la conclusion de cette partie, les participants auront la possibilité de répondre aux questions en s’appuyant sur les connaissances de la Convention de Budapest qu’ils ont acquises lors du cours d'introduction.</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997E0-B5DD-4D60-917F-11AB39C0BA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vidence les faits qui permettent de répondre à la question. Il est particulièrement important de noter que la politique du fournisseur de services Scam Mail Inc. prévoit une période de conservation qui est limitée à sept jour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307F6-44F4-4799-A754-3C57EAA11A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6 de la Convention de Budapest qui habilite l'autorité compétente à ordonner la conservation rapide de données informatiques spécifiées stockées au moyen d'un système informatique lorsqu’il y a des raisons de penser que les données informatiques sont particulièrement susceptibles de perte ou de modification, et à obliger une personne à préserver et à maintenir l'intégrité desdites données informatiques pendant une période maximale de quatre-vingt-dix jour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394A6-5EEB-457D-B553-3DAF578E61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explique que la mesure appropriée à prendre est la conservation accélérée des données informatiques stockées liées au compte criminal@scammail.com. Compte tenu de la période de conservation limitée, les données stockées par Scam Mail Inc. sont particulièrement susceptibles de perte. Il est donc important que toutes les données pertinentes (données relatives au trafic et au contenu) produites au cours des 7 derniers jours soient conservées et que Scam Mail Inc. soit constraint par ordonnance à maintenir l'intégrité des données conservée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19337-60DE-4725-8ED5-DC8B4503A6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uxième question concerne la nature des informations qui seraient nécessaires pour identifier la personne qui a envoyé le code d'accès au moyen du compte de messagerie </a:t>
            </a:r>
            <a:r>
              <a:rPr b="1" lang="en-US" sz="1200" spc="-1" strike="noStrike">
                <a:solidFill>
                  <a:srgbClr val="000000"/>
                </a:solidFill>
                <a:latin typeface="Calibri"/>
              </a:rPr>
              <a:t>criminal@scammail.com</a:t>
            </a:r>
            <a:r>
              <a:rPr b="0" lang="en-US" sz="1200" spc="-1" strike="noStrike">
                <a:solidFill>
                  <a:srgbClr val="000000"/>
                </a:solidFill>
                <a:latin typeface="Calibri"/>
              </a:rPr>
              <a:t>. La deuxième partie de cette question invite les participants à expliquer comment ces informations peuvent être obte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982C8-9A8C-4D45-8493-9EA1D2963B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Il est important pour le formateur de souligner que ni le siège social ni le centre informatique de Scam Mail Inc ne sont localisés sur le territoire de Middle Earth. Il faudrait également que le formateur explique que les informations recherchées dans le cadre des pouvoirs procéduraux devraient permettre d'identifier l'agent de DarkHacker (c'est-à-dire un abonné des prestataires de service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DF907-2C53-4AAC-A3FF-0F0CC5771F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9F42A-AD6C-43AF-8E42-32CC11C1BB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65F3E-E9EF-46DD-B1AF-F86614E66A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Elle explique d'abord pourquoi les informations relatives à l’abonné sont des informations pertinentes qui vous permettraient d'identifier une personne qui a souscrit aux services de Scam Mail Inc. et, en particulier, de determiner l'identité, l’adresse postale ou géographique, le numéro de téléphone et d'autres renseignements la concernant. Elle explique ensuite comment ces informations peuvent être obtenues au moyen d’une injonction de produire visée par l'article 18.1.b.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expliquer que l'article 18 est le seul pouvoir procédural qui concerne spécifiquement les informations relatives aux abonnés.</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EC1C5-D06E-41F8-995C-1F8F294B64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est un peu plus large et concerne des tiers qui ont été contactés par un compte de messagerie électronique particulier. Les participants sont tenus d'identifier la procédure qui permettra d’obtenir ces informations.</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E7E01-1276-4F8D-B099-09E3F49E17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permettent de répondre à la question. Le formateur devrait rappeler aux participants que la politique de Scam Mail Inc. prévoit que les données ne seront conservées que pendant une période de 7 jours, ce qui signifie que cette société ne possède pas de données plus anciennes. Les “enquêteurs” souhaitent obtenir des informations concernant d'autres inconnus contactés pendant cette période par un abonné.</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41512-E959-47EB-95A2-D01785D0B9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les données informatiques stockées stockées en possession ou en contrôle d'une personne peuvent être obtenues. En particulier, une injonction de produire permettrait de rechercher des données informatiques précises en possession de n’importe quelle personne (les participants se souviendront que cela inclut également les prestataires de service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C7D3C-A2B0-4D75-AD6A-2A7B1854DC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la réponse à la question.  La première partie de la diapositive indique le type de données qui sont nécessaires à ce stade de l'enquête. Il est possible que les participants n’aient recueilli que les données relatives au trafic puisqu’il s’agissait d’identifier les autres personnes contactées par l’utilisateur de </a:t>
            </a:r>
            <a:r>
              <a:rPr b="1" lang="en-US" sz="1200" spc="-1" strike="noStrike">
                <a:solidFill>
                  <a:srgbClr val="000000"/>
                </a:solidFill>
                <a:latin typeface="Calibri"/>
              </a:rPr>
              <a:t>criminal@scammail.com</a:t>
            </a:r>
            <a:r>
              <a:rPr b="0" lang="en-US" sz="1200" spc="-1" strike="noStrike">
                <a:solidFill>
                  <a:srgbClr val="000000"/>
                </a:solidFill>
                <a:latin typeface="Calibri"/>
              </a:rPr>
              <a:t> et que la question ne concerne pas spécifiquement le contenu des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important de souligner qu’une telle injonction de produire ne serait pas autorisée dans des circonstances normales. Elle serait possible ici pour deux raisons: 1) parce que </a:t>
            </a:r>
            <a:r>
              <a:rPr b="1" lang="en-US" sz="1200" spc="-1" strike="noStrike">
                <a:solidFill>
                  <a:srgbClr val="000000"/>
                </a:solidFill>
                <a:latin typeface="Calibri"/>
              </a:rPr>
              <a:t>criminal@scammail.com</a:t>
            </a:r>
            <a:r>
              <a:rPr b="0" lang="en-US" sz="1200" spc="-1" strike="noStrike">
                <a:solidFill>
                  <a:srgbClr val="000000"/>
                </a:solidFill>
                <a:latin typeface="Calibri"/>
              </a:rPr>
              <a:t> ne conserve les données que pendant une période de sept jours et 2) parce que les données demandées se rapportent à un seul compte.</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CD8B6-AEEE-43F5-A5D4-63655A4A6E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 la coopération internationale sans demande d’entraide visée par la Convention de Budapest. Elle présente d’abord les faits qui concernent une étude de cas puis les questions pertinentes qui s’y rapportent.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7D422-4C45-44DC-854C-0119506D0A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688BE-BD4F-4186-B129-344A650AB5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st invité à expliquer les faits relatifs à la Partie IV (autres formes de coopération).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étude de cas traite des mécanismes permettant d'obtenir des données d'autres juridictions sans avoir à présenter de demande officiell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dans le cadre du processus d'enquête, les services de répression reçoivent un message électronique avec des coordonnées bancaires. Le fournisseur de services de messagerie électronique n'est pas présent physiquement sur le territoire de Middle Earth mais son siège social et ses centres informatiques sont au Mordor. Le formateur doit souligner que cette société n’a pas de présence physique au Mordor, mais qu’elle a récemment publié au Middle Earth des publicités sur ses services gratuits en langue loc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autre aspect essentiel à souligner est que les services de répression ont identifié des personnes qui se sont plaintes des activités frauduleuses commises sur DarkHacker et qu’un certain nombre d’entre elles ont consenti à donner un accès à leurs comptes de messagerie électronique et à leurs messages électroniques pour faire advancer l'enquête.</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58B63-80F8-44F4-972C-8A7D7A9B20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s deux premières questions relatives à cette partie du module sont abordées ensemble car les deux questions sont interdépend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emière question concerne l'identification du type d'information qui serait nécessaire pour identifier la personne qui utilise le compte de messagerie mentionné. La deuxième question concerne l'obtention des informations mentionnées ci-dessus. Il serait bon que le formateur précise qu'il existe sans doute plusieurs façons d'accéder à ces données et de les obtenir mais que les participants sont invités à identifier la mesure la plus rapid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F26E9-09B4-4D01-A0C8-CBC14CFB0A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évidence les faits qui se rapportent aux questions posées dans la diapositive précédente. En particulier, le formateur devrait souligner que le fournisseur de services de messagerie électronique Hack Mail Inc. n'a pas de bureau sur le territoire de Middle Earth et se trouve donc à l'extérieur de celui des services de répression dont vous êtes un agent. Le formateur devrait préciser que Hack Mail Inc. n'a pas de présence physique dans le pays mais qu’il offre quand même des services aux résidents de Middle Earth. En effet, cette société a diffusé  récemment des publicités en langue locale sur le territoire de Middle Earth en ciblant clairement les utilisateurs de ce pays.</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est également important de préciser que Hack Mail Inc. ne stocke des informations sur les abonnés que sous la forme de données informatique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E3436-53F1-4E7E-919E-07E41F2615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indique que les informations concernant les abonnés sont des informations, notamment informatiques ou d'autres formes, qui permettent d'établir l'identité, l'adresse postale ou géographique et le numéro de téléphone de l'abonné, et tout autre numéro d'accès, les données concernant la facturation et le paiement, disponibles sur la base d'un contrat ou d'un arrangement de ser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0E04A-9DE4-426F-B2B8-E5942F6273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18 de la Convention de Budapest qui décrit la procédure par laquelle des informations relatives à l’abonné qui sont en possession ou sous le contrôle de fournisseur de services peuvent être obtenues par une injonction de produire adressée à ceux de ces prestataires qui offrent des services dans un pays donn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souligner que l'article 18.1.b. de la Convention de Budapest indique que ce qui est important n’est pas qu'un prestataire de services soit physiquement présent sur le territoire mais qu’il propose des services sur celui-ci. Il convient de rappeler aux délégués la note d'orientation relative à l'article 18, qui précise qu’il est important de savoir, pour déterminer si un prestataire de services offre des services sur un territoire, s’il diffuse localement des publicités sur ses services.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AB7DE-B7ED-40A4-978B-C31A6D97CA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première question en précisant que les informations sur les abonnés sont une forme d'information qui permet d'identifier l'utilisateur d'un compte de messagerie particuli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fournit également deux réponses possibles à la deuxième question, à savoir que les informations provenant d'un prestataire de services situé dans un autre pays, mais offrant des services sur le territoire de Middle Earth, peuvent être obtenues soit par une demande officielle d’entraide pour accéder aux données, soit par un injonction de produire adressée directement au fournisseur de service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159C2-81A1-44CF-B2AD-65BC4132B1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donne des précisions sur la réponse à la deuxième question et explique pourquoi les injonctions de produire sont plus appropriés dans cette situation. L'article 18 (voir la note d'orientation de l'article 18) permet de rechercher des informations sur les abonnés qui sont en possession ou sous le contrôle des prestataires de services situés à l'extérieur d'un pays tant que ces prestataires de services fournissent des services sur son territoire. En outre, les demandes d'entraide sont généralement assez lentes, de sorte qu'une injonction de produire est probablement le moyen le plus rapide d'obtenir les renseignements demandé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7FBBE3-2F54-4E50-8FAC-86179C53A1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roisième question concerne l'obtention des messages électronique des personnes qui ont consenti volontairement à les communiquer. Le formateur soulignera à nouveau que les participants doivent identifier la façon la plus rapide d'obtenir ces communications électronique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57FFB-BC8A-4F80-85D6-850340A134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met en exergue les faits qui se rapportent à la question. Le formateur doit expliquer que les services de répression ont pu consulter des plaintes postées sur des sites internet ou des forums accessibles au public. Au cours de l'enquête, ces services ont contacté les personnes qui se sont plaintes au sujet du compte </a:t>
            </a:r>
            <a:r>
              <a:rPr b="1" lang="en-US" sz="1200" spc="-1" strike="noStrike">
                <a:solidFill>
                  <a:srgbClr val="000000"/>
                </a:solidFill>
                <a:latin typeface="Calibri"/>
              </a:rPr>
              <a:t>fraud@hackmail.com</a:t>
            </a:r>
            <a:r>
              <a:rPr b="0" lang="en-US" sz="1200" spc="-1" strike="noStrike">
                <a:solidFill>
                  <a:srgbClr val="000000"/>
                </a:solidFill>
                <a:latin typeface="Calibri"/>
              </a:rPr>
              <a:t> et ont obtenu un accord légal pour accéder aux comptes électroniques et aux messages électroniques des personnes qui ont l’autorité légale de leur donner cet accès. </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F6C98-C988-4450-83F7-E4B4392675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2 de la Convention de Budapest qui permet l'accès transfrontière à des données informatiques stockées lorsque ces données informatiques sont accessibles au public ou avec le consentement d'une personne qui a l'autorité légale de les divulguer. Le formateur doit expliquer que l'accès transfrontalier prévu à l'article 32 n'exige pas une demande préalable d'entraide et peut être effectué directement par une Partie (qui n’est même pas obligée de le notifier à l'autorité centrale de l'autre Partie selon les lois nationales de l'entraide judiciaire).</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E78022-5A6B-40BF-915A-89894BBD54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En ce qui concerne l'accès à ces plaintes et leur utilisation comme preuve, l'article 32 bis vous permet d'y accéder directement et de les utiliser comme preuves sans avoir à demander et à obtenir de telles données au moyen d'une demande d’entra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tant donné que les abonnés aux comptes de messagerie sont  considérés dans de nombreux pays comme la partie ayant l'autorité légale pour divulguer les messages associés à ces comptes, ces messages peuvent être consultés de nouveau sans formuler de demande d'entraide.</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E32A3-C10C-49D0-966C-1476D562BF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cours traite des demandes d’entraide visée par la Convention de Budapest. Elle présente d’abord les faits qui concernent une étude de cas puis les questions pertinentes qui s’y rapportent.</a:t>
            </a: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8D4E2-AA0D-46F5-98EF-4A9BEE2BE2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est invité à expliquer les faits relatifs à la Partie V (Entraide judiciaire). Il est important que les faits soient clairement expliqués afin que les participants puissent répondre correctement aux questions liées à l'étude de 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partie de l'étude de cas traite des mécanismes permettant d'obtenir des données d'autres juridictions en formulant une demande officielle d'entraide au titre des dispositions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oit expliquer que l'emplacement d'un système informatique qui serait utilisé par DarkHacker a été révélé et qu’il est situé à Rohan, un pays voisin de Middle Earth. L'arrestation de l'informateur n’étant pas publique et les autres personnes associées à DarkHacker n’étant pas au courant, il n'y a aucune raison de penser que les données sont susceptibles d’être perdues ou mod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fin, les participants sont informés que les services de répression ont reçu une information selon laquelle un message sera prochainement envoyé au moyen de l'ordinateu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43599-28F4-4A41-BA0F-D26067F8A4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s questions concernent la préservation des données informatiques par le fournisseur de services de messagerie électronique Hack Mail Inc. ainsi que la recherche d'informateurs qui permettraient d'identifier d'autres fournisseurs de services impliqués dans la transmission des communications identifiée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1258A-1E0B-4818-8054-FA466EE23B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Le seul fait nouveau ici est que l'informateur a fourni des informations qui suggèrent que d'autres agents de DarkHacker peuvent être identifiés en contrôlant d'autres personnes qui ont été contactées au moyen du compte de messagerie </a:t>
            </a:r>
            <a:r>
              <a:rPr b="1" lang="en-US" sz="1200" spc="-1" strike="noStrike">
                <a:solidFill>
                  <a:srgbClr val="000000"/>
                </a:solidFill>
                <a:latin typeface="Calibri"/>
              </a:rPr>
              <a:t>fraud@hackmail.com</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F5EB2C-C0C5-4F83-A3F9-C63B31E8EC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end une partie de l'article 29 de la Convention de Budapest qui vise à rechercher une conservation rapide des données. Il s'agit d'une mesure préliminaire à prendre dans le cas où une partie a l'intention de présenter une demande au titre de l'article 31 de la Convention de Budapest; elle permet par ailleurs la conservation temporaire des données informatique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77CCF-0766-49C0-9A86-3D65DE34F9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 contexte dans lequel se situe l'étude de cas qui constitue la base de cette session. Il est important que le formateur présente succinctement cette étude dans laquelle les participants jouent le rôle d’un agent des services de répression d’un pays fictif appelé Middle Earth. Les autres pays qui sont ensuite examinés dans l'étude de cas, Mordor et Rohan, doivent également être présentés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peut être utile également de présenter la structure de la partie restante du cours aux participants. L'étude de cas est divisée en quatre parties interdépendantes, chacune traitant d'une catégorie particulière de questions.  La première porte sur des questions de droit matériel, la deuxième sur des questions relatives au pouvoir procédural, la troisième sur des questions relatives à d'autres formes de coopération et la quatrième sur des questions relatives à l'entraide judiciair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72F90-0E45-44C2-9E64-03169770CC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eproduit une partie de l'article 30 de la Convention de Budapest qui concerne la divulgation rapide des données de trafic conservées. Il n’est pas prévu dans cet article que les parties formulent une demande spécifique de divulgation rapide de données relatives au trafic. Cela étant, lorsqu’une Partie qui </a:t>
            </a:r>
            <a:r>
              <a:rPr b="0" lang="fr-FR" sz="1200" spc="-1" strike="noStrike">
                <a:solidFill>
                  <a:srgbClr val="000000"/>
                </a:solidFill>
                <a:latin typeface="Calibri"/>
              </a:rPr>
              <a:t>exécute une demande de conservation de données relatives au trafic </a:t>
            </a:r>
            <a:r>
              <a:rPr b="0" lang="en-US" sz="1200" spc="-1" strike="noStrike">
                <a:solidFill>
                  <a:srgbClr val="000000"/>
                </a:solidFill>
                <a:latin typeface="Calibri"/>
              </a:rPr>
              <a:t>concernant une communication spécifique formulée </a:t>
            </a:r>
            <a:r>
              <a:rPr b="0" lang="fr-FR" sz="1200" spc="-1" strike="noStrike">
                <a:solidFill>
                  <a:srgbClr val="000000"/>
                </a:solidFill>
                <a:latin typeface="Calibri"/>
              </a:rPr>
              <a:t>en application de l’article 29 découvre qu’un fournisseur de services dans un autre Etat a participé à la transmission de cette communication, l’article 30 oblige cette Partie à divulguer rapidement une quantité suffisante de données concernant le trafic, aux fins d’identifier ce fournisseur de services et la voie par laquelle la communication a été transmi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03055-D6EF-48D5-B8E5-F05B8D216C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Contrairement au pouvoir procédural interne relatif à la conservation accélérée (qui est équivalent à l'article 16  de la Convention de Budapest), il est nécessaire qu’il y ait des raisons de penser que les données recherchées sont particulièrement susceptibles de perte ou de modification. Or, dans ce cas, la conservation accélérée est une mesure qui précède une demande d'entraide et qui n’est pas liée au fait que les données risquent d’être perdues ou modifiées. En conséquence, Middle Earth, qui a l'intention de présenter une demande d'entraide pour la saisie et la divulgation de données informatiques, peut également présenter cette demande préliminaire de conservation desdit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gissant de la deuxième question, on note qu’il est possible, lors de l'exécution de la demande de conservation des données, que Hack Mail Inc découvre que les communications de </a:t>
            </a:r>
            <a:r>
              <a:rPr b="1" lang="en-US" sz="1200" spc="-1" strike="noStrike">
                <a:solidFill>
                  <a:srgbClr val="000000"/>
                </a:solidFill>
                <a:latin typeface="Calibri"/>
              </a:rPr>
              <a:t>fraud@hackmail.com</a:t>
            </a:r>
            <a:r>
              <a:rPr b="0" lang="en-US" sz="1200" spc="-1" strike="noStrike">
                <a:solidFill>
                  <a:srgbClr val="000000"/>
                </a:solidFill>
                <a:latin typeface="Calibri"/>
              </a:rPr>
              <a:t> ont été transmises par des fournisseurs de services opérant dans d'autres pays. Dans ce cas, cette société est tenue, en vertu de l'article 30, de divulguer directement des quantités suffisantes de données pour permettre l'identification du ou des prestataires de services ainsi que les moyens par lesquels les communications ont été transmises. Il n'est pas nécessaire de présenter une demande de divulgation de données sur le trafic dans ce cas.</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27483-14CE-4215-98B9-173B05CD48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qui peuvent être prises pour obtenir des données informatiques stockées dans une autre juridiction. Il est important que le formateur précise que l'ordinateur DarkHacker est situé à Rohan, pays voisin de Middle Earth.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3766A-C7F2-440A-AE2A-3CA98665E7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t rappelle notamment que le système informatique est situé sur le territoire d'une autre parti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DA9F1-F26C-4C23-AF52-9ECC95A7E2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mprend les parties pertinentes de l'article 31 de la Convention de Budapest (entraide concernant l'accès aux données informatiques stockées). Le formateur doit expliquer que l'article 31 permet à une partie de demander à une deuxième partie de saisir ou de protéger de façon similaire les données stockées au moyen d'un système informatique situé sur le territoire de cette derniè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peut également indiquer que pour qu'une demande d'entraide concernant la saisie de données informatiques soit accélérée, il faut qu’il existe des raisons de penser que les données pertinentes sont particulièrement susceptibles de perte ou de modification.  Or l'article 16 de la Convention de Budapest exige que les données soient susceptibles de perte ou de modification pour qu’une mesure de recherche de données informatiques soit adoptee,</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3C697-8E8C-4D37-8603-3965F7A271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répond à la question.  Le formateur doit expliquer que les données informatiques pertinentes peuvent être obtenues en sollicitant une demande d'entraide au titre de l'article 31 de la Convention de Budapest. Cette demande devrait concerner en particulier la saisie du système informatique, la sécurisation des données informatiques et la divulgation des données informatiques sais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omplément, le formateur peut expliquer que Middle Earth n’est peut-être pas en mesure de demander une procédure accélérée puisque que le système informatique DarkHacker et les données obtenues ne sont pas susceptibles de perte ou de modifica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F91E2-3967-4956-8817-0393B92E0D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question porte sur les mesures visant à sécuriser et déterminer avec certitude l'emplacement du client de DarkHacker qui prendra part à une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62A4D-B25A-4EB9-AB8C-D0BB1CDBD7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souligne les faits qui se rapportent à la question. En particulier, le formateur devrait expliquer que les services répressifs ont été informés qu'une transaction potentiellement criminelle à grande échelle aurait lieu le lendemain à 17 h 00. Ces services connaissent l'adresse électronique qui sera utilisée pour envoyer la communication.</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BEED8-529E-4887-AC81-DACA9CDD40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présente les parties pertinentes de l'article 33 de la Convention de Budapest relatives à l'entraide concernant la collecte en temps réel des données sur le trafic. Le formateur devrait expliquer que cet article permet de demander une entraide pour collecter des données sur le trafic associées à des communications spécifiées dans un autre territoire en temps rée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3C181-37B5-4187-8C2E-E575496010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tte diapositive contient la réponse à la question. Middle Earth peut soumettre une demande d'entraide à Mordor (où se trouve le siège social de Hack Mail Inc.) pour que ce pays ordonne à Hack Mail Inc de procéder à la collecte en temps réel des données de trafic associées à la communication spécifiée provenant de </a:t>
            </a:r>
            <a:r>
              <a:rPr b="1" lang="en-US" sz="1200" spc="-1" strike="noStrike">
                <a:solidFill>
                  <a:srgbClr val="000000"/>
                </a:solidFill>
                <a:latin typeface="Calibri"/>
              </a:rPr>
              <a:t>fraud@hackmail.com</a:t>
            </a:r>
            <a:r>
              <a:rPr b="0" lang="en-US" sz="1200" spc="-1" strike="noStrike">
                <a:solidFill>
                  <a:srgbClr val="000000"/>
                </a:solidFill>
                <a:latin typeface="Calibri"/>
              </a:rPr>
              <a:t> à 17 heures le jour suiv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expliquer que cette entraide est fournie (ou non) en fonction des exigences légales existantes à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EFF93-30DD-457F-B1AF-713DEB1CB2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invité à expliquer les faits relatifs à la Partie II (droit matériel) dans cette diapositive. Il est important que l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evrait d'abord expliquer que des cybercriminels inconnus ont réussi à pirater les lecteurs de données de systèmes informatiques. Il convient également de préciser que ce piratage a été suivi d’une installation d’un logiciel malveillant sur ces systèmes, que l'effet/impact du logiciel malveillant se limite à une augmentation de la taille du curseur de la souris et que le piratage n'a pas d‘autre consequence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8C1D6-A8F6-4E8F-9D67-CE72E7CA3F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7FD37-47DF-4C24-B08E-B257779D15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3E6B1-34A8-4685-A3E5-F03A5F8747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donner aux participants la possibilité de poser des questions sur la première partie du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cun autre exercice pratique n'est préparé pour cett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e formateur devrait contrôler les connaissances en posant des questions pertinentes sur tous les aspects de la session.</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D4AD2-0B25-4F78-BDF4-0EAF5C8E9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est tenu d'expliquer les faits relatifs à la Partie II (droit matériel). Il est important que ces faits soient clairement expliqués afin que les participants puissent répondre correctement aux questions liées à l'étude de ca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e formateur doit d'abord expliquer que des cybercriminels inconnus ont réussi à pirater des lecteurs de données de systèmes informatiques. Il doit également préciser que ce piratage a été suivi d’une installation de logiciels malveillants sur ces systèmes, que l'effet/impact du logiciel malveillant se limite à une augmentation de la taille du curseur de la souris et que le piratage n'a pas d’autres conséquences sur les systèmes ou données informatiqu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En ce qui concerne la vente du logiciel de traduction, le formateur doit souligner que le logiciel de traduction fonctionne comme un dispositif à double usage et qu’il est annoncé publiquement qu’il autorise l'accès à des systèmes informatiques sans autorisa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Le formateur doit annoncer aux participants qu’ils doivent mener une opération “secrète” en vue d’acquérir des codes qui permettent d’accéder à un certain nombre de systèmes informatiques. Il doit préciser également que cette opération est effectuée sans droit, et uniquement aux fins de l'application de la loi et dans l'intention d'identifier les personnes qui exploitent DarkHack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31CFF-DE6B-4B2A-A09D-C88346FB67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67CBB-9889-43B4-A50D-4A1B811E9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D0729-E41D-4B00-B745-548AF5EE5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898D3-C9C0-4546-8412-2C0C66C08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FF2EA-D82C-4199-B67D-47F6BF5DD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8373D-CFB0-409B-B0A3-2D98CF1F5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01669-706B-4962-A4FB-F99E47F81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089C-DB15-4441-86F0-C13FCE9E6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F5F0E-64B3-4181-8686-035CFAB0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35C28-CC9E-4FFA-AEC9-B6E9AAC1C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7DE9E-4CC0-4A43-8D4C-6ADAD361A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B7D0-7644-4919-8410-2A16B9AEC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F093E-98EF-48CC-8FF1-C5ABCB020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E4F3B-6F53-4775-9921-4EFB9B5D0882}"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5672C-A479-4857-94D1-2C0B6A8415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inalité – Formation avancé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et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tion de Budapest.</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oit matériel, pouvoirs procéduraux et coopération internationale</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B2C9B0-46F6-49E6-8451-C5766BABD5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87362-D8BC-4238-A6EC-1561036A75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212760" y="719280"/>
            <a:ext cx="871848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commis en installant des logiciels malveillants dans les systèmes informatiques de l'institution financière de renom?</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cybercrimes qui ont été commis par des personnes sur le forum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en achetant des codes d'accès 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462E5-346A-4D93-8573-ED8F344E6C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216000" y="461880"/>
            <a:ext cx="847080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Dans le cadre de l'opération secrète, vous obtenez des codes d'accès et des informations de paiement auprès d'un agent de DarkHacker. </a:t>
            </a:r>
            <a:r>
              <a:rPr b="0" lang="en-US" sz="2900" spc="-1" strike="noStrike">
                <a:solidFill>
                  <a:srgbClr val="000000"/>
                </a:solidFill>
                <a:latin typeface="Calibri"/>
                <a:ea typeface="Calibri"/>
              </a:rPr>
              <a:t>Vous recevez un message d'un compte électronique payant criminal@scammail.com ainsi qu’un lien de téléchargement vers les codes d'accè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fournisseur de services de messagerie pour criminal@scammail.com est Scam Mail Inc. Or le siège social et le centre de données de Scam Mail Inc se trouvent sur le territoire de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64F5D-A18A-40CF-AD30-8405E28E4E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146160" y="227160"/>
            <a:ext cx="87598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conserve les données pendant une période de 7 jours 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dresses de messagerie électronique pour identifier l'agent d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d'obtenir des informations d'autres personnes inconnues qui ont été contactées par le biais du compte de messagerie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au cours des 7 derniers jour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717BA-7FEF-4406-A63E-1CB4DDBD67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174600" y="507960"/>
            <a:ext cx="851220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initiales devez-vous prendre pour que le processus d'enquête ne soit pas mis en échec?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Comment pouvez-vous obtenir ces informations auprès de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Comment pourriez-vous obtenir des renseignements auprès de Scam Mail Inc. concernant d'autres personnes qui ont été contactées par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 au cours des sept derniers j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EF4CA-AC59-4FBF-9ADE-A2B7DE84F0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257040" y="-247680"/>
            <a:ext cx="862992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en-US"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28699-1D60-4710-83D5-0B89BF0DB2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résidant à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86781-C959-4F1B-A968-8D85F2E467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609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De quel type d'informations avez-vous besoin pour identifier la personne qui utilise </a:t>
            </a:r>
            <a:r>
              <a:rPr b="1" lang="en-US" sz="2800" spc="-1" strike="noStrike">
                <a:solidFill>
                  <a:srgbClr val="000000"/>
                </a:solidFill>
                <a:latin typeface="Calibri"/>
                <a:ea typeface="Calibri"/>
              </a:rPr>
              <a:t>criminal@scam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 est la mesure la plus rapide pour obtenir de telles informations auprès de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 est le moyen le plus rapide d'obtenir des messages électroniques envoyés aux victimes par l’utilisateur d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908C8-5733-4490-9C86-E78C6777BC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157320" y="117360"/>
            <a:ext cx="882936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6DA59-153B-4051-B67A-CA7215D2F2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422280" y="287280"/>
            <a:ext cx="853452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veiller à ce que HackMail Inc. conserve les données relatives au compte </a:t>
            </a:r>
            <a:r>
              <a:rPr b="1" lang="en-US" sz="2800" spc="-1" strike="noStrike">
                <a:solidFill>
                  <a:srgbClr val="000000"/>
                </a:solidFill>
                <a:latin typeface="Calibri"/>
                <a:ea typeface="Calibri"/>
              </a:rPr>
              <a:t>fraud@hackmail.com</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devriez-vous prendre pour identifier d'autres prestataires de services impliqués dans la transmission de communications liées à l'arna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obtenir des données informatiques provenant du système informatique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Quelles mesures pouvez-vous prendre pour localiser avec certitude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a:t>
            </a:r>
            <a:br>
              <a:rPr sz="4000"/>
            </a:br>
            <a:r>
              <a:rPr b="1" lang="en-US" sz="4000" spc="-1" strike="noStrike">
                <a:solidFill>
                  <a:srgbClr val="000000"/>
                </a:solidFill>
                <a:latin typeface="Calibri"/>
              </a:rPr>
              <a:t>Droit matériel</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8345E-260E-40D8-B1FA-3FAE45668C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774720"/>
            <a:ext cx="6095880" cy="577224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à l'étude de cas</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Droit matérie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II </a:t>
            </a:r>
            <a:br>
              <a:rPr sz="2500"/>
            </a:br>
            <a:r>
              <a:rPr b="0" lang="en-US" sz="2500" spc="-1" strike="noStrike">
                <a:solidFill>
                  <a:srgbClr val="000000"/>
                </a:solidFill>
                <a:latin typeface="Calibri"/>
              </a:rPr>
              <a:t>Droit procédural</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IV</a:t>
            </a:r>
            <a:br>
              <a:rPr sz="2500"/>
            </a:br>
            <a:r>
              <a:rPr b="0" lang="en-US" sz="2500" spc="-1" strike="noStrike">
                <a:solidFill>
                  <a:srgbClr val="000000"/>
                </a:solidFill>
                <a:latin typeface="Calibri"/>
              </a:rPr>
              <a:t>Autres formes de coopération</a:t>
            </a: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39480" indent="-3394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ie V</a:t>
            </a:r>
            <a:endParaRPr b="0" lang="en-US" sz="2500" spc="-1" strike="noStrike">
              <a:solidFill>
                <a:srgbClr val="000000"/>
              </a:solidFill>
              <a:latin typeface="Calibri"/>
            </a:endParaRPr>
          </a:p>
          <a:p>
            <a:pPr marL="339480" indent="-3394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Entraide judiciair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55AE46-2D94-4168-BFD9-AFCD872254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741DA-B6E2-4281-92E8-CFA5EEEED2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01A93-4DCC-4671-89B8-C1DDE6B64D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343080" y="984240"/>
            <a:ext cx="83437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d'infiltration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D3E33-58F0-4BBA-AE5B-8997AB1402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518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Quelle est la nature du ou des </a:t>
            </a:r>
            <a:r>
              <a:rPr b="1" lang="en-US" sz="2900" spc="-1" strike="noStrike">
                <a:solidFill>
                  <a:srgbClr val="000000"/>
                </a:solidFill>
                <a:latin typeface="Calibri"/>
                <a:ea typeface="Calibri"/>
              </a:rPr>
              <a:t>cybercrimes</a:t>
            </a:r>
            <a:r>
              <a:rPr b="0" lang="en-US" sz="2900" spc="-1" strike="noStrike">
                <a:solidFill>
                  <a:srgbClr val="000000"/>
                </a:solidFill>
                <a:latin typeface="Calibri"/>
                <a:ea typeface="Calibri"/>
              </a:rPr>
              <a:t> commis en </a:t>
            </a:r>
            <a:r>
              <a:rPr b="1" lang="en-US" sz="2900" spc="-1" strike="noStrike">
                <a:solidFill>
                  <a:srgbClr val="000000"/>
                </a:solidFill>
                <a:latin typeface="Calibri"/>
                <a:ea typeface="Calibri"/>
              </a:rPr>
              <a:t>installant des logiciels malveillants </a:t>
            </a:r>
            <a:r>
              <a:rPr b="0" lang="en-US" sz="2900" spc="-1" strike="noStrike">
                <a:solidFill>
                  <a:srgbClr val="000000"/>
                </a:solidFill>
                <a:latin typeface="Calibri"/>
                <a:ea typeface="Calibri"/>
              </a:rPr>
              <a:t>dans les </a:t>
            </a:r>
            <a:r>
              <a:rPr b="1" lang="en-US" sz="2900" spc="-1" strike="noStrike">
                <a:solidFill>
                  <a:srgbClr val="000000"/>
                </a:solidFill>
                <a:latin typeface="Calibri"/>
                <a:ea typeface="Calibri"/>
              </a:rPr>
              <a:t>systèmes informatiques </a:t>
            </a:r>
            <a:r>
              <a:rPr b="0" lang="en-US" sz="2900" spc="-1" strike="noStrike">
                <a:solidFill>
                  <a:srgbClr val="000000"/>
                </a:solidFill>
                <a:latin typeface="Calibri"/>
                <a:ea typeface="Calibri"/>
              </a:rPr>
              <a:t>de l'institution financière de renom?</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14918-66F2-4A99-87E4-A646E1A9E9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Times New Roman"/>
              </a:rPr>
              <a:t>Vous recevez un rapport d'information qui indique que les lecteurs de données des systèmes informatiques d'une institution financière de renom ont été piratés par des cybercriminels inconnus et qu’un logiciel malveillant qui augmente la taille du curseur de la souris a été installé sur ces systèm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Accès illégal</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ccès intentionnel et sans droit à tout ou partie d'un système informatique est illégal.</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ne Partie peut exiger que l’infraction soit commise en violation des mesures de sécurité, dans l’intention d’obtenir des données informatiques ou dans une autre intention délictueuse, ou soit en relation avec un système informatique connecté à un autre système informatique.</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A283E-6A9E-45BC-A7BD-5BE939912C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Atteinte à l’intégrité du systèm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L'entrave grave, </a:t>
            </a:r>
            <a:r>
              <a:rPr b="0" lang="en-US" sz="3000" spc="-1" strike="noStrike">
                <a:solidFill>
                  <a:srgbClr val="000000"/>
                </a:solidFill>
                <a:latin typeface="Calibri"/>
              </a:rPr>
              <a:t>intentionnelle et sans droit, </a:t>
            </a:r>
            <a:r>
              <a:rPr b="1" lang="en-US" sz="3000" spc="-1" strike="noStrike">
                <a:solidFill>
                  <a:srgbClr val="000000"/>
                </a:solidFill>
                <a:latin typeface="Calibri"/>
              </a:rPr>
              <a:t>au fonctionnement d'un système informatique, par l’introduction, </a:t>
            </a:r>
            <a:r>
              <a:rPr b="0" lang="en-US" sz="3000" spc="-1" strike="noStrike">
                <a:solidFill>
                  <a:srgbClr val="000000"/>
                </a:solidFill>
                <a:latin typeface="Calibri"/>
              </a:rPr>
              <a:t>la transmission, l’endommagement, l’effacement, la détérioration, l’altération ou la suppression </a:t>
            </a:r>
            <a:r>
              <a:rPr b="1" lang="en-US" sz="3000" spc="-1" strike="noStrike">
                <a:solidFill>
                  <a:srgbClr val="000000"/>
                </a:solidFill>
                <a:latin typeface="Calibri"/>
              </a:rPr>
              <a:t>de données informatiques.</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11E04-DF67-45CA-9E12-BB46E9A2DA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219240" y="365040"/>
            <a:ext cx="8646840" cy="62150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identifier l'infraction 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comportement du prestataire de services suppose </a:t>
            </a:r>
            <a:r>
              <a:rPr b="1" lang="en-US" sz="3200" spc="-1" strike="noStrike">
                <a:solidFill>
                  <a:srgbClr val="000000"/>
                </a:solidFill>
                <a:latin typeface="Calibri"/>
              </a:rPr>
              <a:t>l'accès à</a:t>
            </a:r>
            <a:r>
              <a:rPr b="0" lang="en-US" sz="3200" spc="-1" strike="noStrike">
                <a:solidFill>
                  <a:srgbClr val="000000"/>
                </a:solidFill>
                <a:latin typeface="Calibri"/>
              </a:rPr>
              <a:t> un lecteur de données faisant partie d'un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a:t>
            </a:r>
            <a:r>
              <a:rPr b="1" lang="en-US" sz="3200" spc="-1" strike="noStrike">
                <a:solidFill>
                  <a:srgbClr val="000000"/>
                </a:solidFill>
                <a:latin typeface="Calibri"/>
              </a:rPr>
              <a:t>est sans droi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t accès est réalisé dans une </a:t>
            </a:r>
            <a:r>
              <a:rPr b="1" lang="en-US" sz="3200" spc="-1" strike="noStrike">
                <a:solidFill>
                  <a:srgbClr val="000000"/>
                </a:solidFill>
                <a:latin typeface="Calibri"/>
              </a:rPr>
              <a:t>intention délictue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rtaines juridictions peuvent exiger que l'accès illégal soit commis dans </a:t>
            </a:r>
            <a:r>
              <a:rPr b="1" lang="en-US" sz="3200" spc="-1" strike="noStrike">
                <a:solidFill>
                  <a:srgbClr val="000000"/>
                </a:solidFill>
                <a:latin typeface="Calibri"/>
              </a:rPr>
              <a:t>l'intention</a:t>
            </a:r>
            <a:r>
              <a:rPr b="0" lang="en-US" sz="3200" spc="-1" strike="noStrike">
                <a:solidFill>
                  <a:srgbClr val="000000"/>
                </a:solidFill>
                <a:latin typeface="Calibri"/>
              </a:rPr>
              <a:t> </a:t>
            </a:r>
            <a:r>
              <a:rPr b="1" lang="en-US" sz="3200" spc="-1" strike="noStrike">
                <a:solidFill>
                  <a:srgbClr val="000000"/>
                </a:solidFill>
                <a:latin typeface="Calibri"/>
              </a:rPr>
              <a:t>d'obtenir des données</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E9369-7ABD-4A82-ACB9-5FB21CC119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58760"/>
            <a:ext cx="8229600" cy="65628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ne vous permet peut-être pas d’</a:t>
            </a:r>
            <a:r>
              <a:rPr b="1" lang="en-US" sz="3200" spc="-1" strike="noStrike">
                <a:solidFill>
                  <a:srgbClr val="000000"/>
                </a:solidFill>
                <a:latin typeface="Calibri"/>
              </a:rPr>
              <a:t>identifier</a:t>
            </a:r>
            <a:r>
              <a:rPr b="0" lang="en-US" sz="3200" spc="-1" strike="noStrike">
                <a:solidFill>
                  <a:srgbClr val="000000"/>
                </a:solidFill>
                <a:latin typeface="Calibri"/>
              </a:rPr>
              <a:t> l'infraction </a:t>
            </a:r>
            <a:r>
              <a:rPr b="1" lang="en-US" sz="3200" spc="-1" strike="noStrike">
                <a:solidFill>
                  <a:srgbClr val="000000"/>
                </a:solidFill>
                <a:latin typeface="Calibri"/>
              </a:rPr>
              <a:t>d’atteinte à l'intégrité d'un système</a:t>
            </a:r>
            <a:r>
              <a:rPr b="0" lang="en-US" sz="3200" spc="-1" strike="noStrike">
                <a:solidFill>
                  <a:srgbClr val="000000"/>
                </a:solidFill>
                <a:latin typeface="Calibri"/>
              </a:rPr>
              <a:t> (article 5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en que </a:t>
            </a:r>
            <a:r>
              <a:rPr b="1" lang="en-US" sz="3200" spc="-1" strike="noStrike">
                <a:solidFill>
                  <a:srgbClr val="000000"/>
                </a:solidFill>
                <a:latin typeface="Calibri"/>
              </a:rPr>
              <a:t>l'introduction de données informatiques </a:t>
            </a:r>
            <a:r>
              <a:rPr b="0" lang="en-US" sz="3200" spc="-1" strike="noStrike">
                <a:solidFill>
                  <a:srgbClr val="000000"/>
                </a:solidFill>
                <a:latin typeface="Calibri"/>
              </a:rPr>
              <a:t>ait modifié la taille du curseur du système informati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fonctionnement de l'ordinateur ne </a:t>
            </a:r>
            <a:r>
              <a:rPr b="1" lang="en-US" sz="3200" spc="-1" strike="noStrike">
                <a:solidFill>
                  <a:srgbClr val="000000"/>
                </a:solidFill>
                <a:latin typeface="Calibri"/>
              </a:rPr>
              <a:t>semble pas sérieusement entravé </a:t>
            </a:r>
            <a:r>
              <a:rPr b="0" lang="en-US" sz="3200" spc="-1" strike="noStrike">
                <a:solidFill>
                  <a:srgbClr val="000000"/>
                </a:solidFill>
                <a:latin typeface="Calibri"/>
              </a:rPr>
              <a:t>comme prévu à l'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ns certaines juridictions, ce cas de figure peut être considéré comme grave</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887F5-37C3-4199-99D4-6B9B527414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43690-28A5-491F-B980-24D862065E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ea typeface="Calibri"/>
              </a:rPr>
              <a:t> </a:t>
            </a:r>
            <a:r>
              <a:rPr b="0" lang="en-US" sz="2900" spc="-1" strike="noStrike">
                <a:solidFill>
                  <a:srgbClr val="000000"/>
                </a:solidFill>
                <a:latin typeface="Calibri"/>
                <a:ea typeface="Calibri"/>
              </a:rPr>
              <a:t>Quelle est la nature </a:t>
            </a:r>
            <a:r>
              <a:rPr b="1" lang="en-US" sz="2900" spc="-1" strike="noStrike">
                <a:solidFill>
                  <a:srgbClr val="000000"/>
                </a:solidFill>
                <a:latin typeface="Calibri"/>
                <a:ea typeface="Calibri"/>
              </a:rPr>
              <a:t>du ou des cybercrimes </a:t>
            </a:r>
            <a:r>
              <a:rPr b="0" lang="en-US" sz="2900" spc="-1" strike="noStrike">
                <a:solidFill>
                  <a:srgbClr val="000000"/>
                </a:solidFill>
                <a:latin typeface="Calibri"/>
                <a:ea typeface="Calibri"/>
              </a:rPr>
              <a:t>qui ont été </a:t>
            </a:r>
            <a:r>
              <a:rPr b="1" lang="en-US" sz="2900" spc="-1" strike="noStrike">
                <a:solidFill>
                  <a:srgbClr val="000000"/>
                </a:solidFill>
                <a:latin typeface="Calibri"/>
                <a:ea typeface="Calibri"/>
              </a:rPr>
              <a:t>commis par des personnes operant sur le forum DarkHacker</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7BACA-941E-4F05-9791-FD5C4B8CDA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suggère que le logiciel malveillant a été créé par un groupe de « hackers » opérant </a:t>
            </a:r>
            <a:r>
              <a:rPr b="1" lang="en-US" sz="2900" spc="-1" strike="noStrike">
                <a:solidFill>
                  <a:srgbClr val="000000"/>
                </a:solidFill>
                <a:latin typeface="Calibri"/>
                <a:ea typeface="Calibri"/>
              </a:rPr>
              <a:t>sur un forum appelé « DarkHacker ».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Une enquête plus poussée révèle que le </a:t>
            </a:r>
            <a:r>
              <a:rPr b="1" lang="en-US" sz="2900" spc="-1" strike="noStrike">
                <a:solidFill>
                  <a:srgbClr val="000000"/>
                </a:solidFill>
                <a:latin typeface="Calibri"/>
                <a:ea typeface="Calibri"/>
              </a:rPr>
              <a:t>logiciel de traduction principalement conçu pour pirater les ordinateurs</a:t>
            </a:r>
            <a:r>
              <a:rPr b="0" lang="en-US" sz="2900" spc="-1" strike="noStrike">
                <a:solidFill>
                  <a:srgbClr val="000000"/>
                </a:solidFill>
                <a:latin typeface="Calibri"/>
                <a:ea typeface="Calibri"/>
              </a:rPr>
              <a:t> est </a:t>
            </a:r>
            <a:r>
              <a:rPr b="1" lang="en-US" sz="2900" spc="-1" strike="noStrike">
                <a:solidFill>
                  <a:srgbClr val="000000"/>
                </a:solidFill>
                <a:latin typeface="Calibri"/>
                <a:ea typeface="Calibri"/>
              </a:rPr>
              <a:t>également vendu par DarkHacker</a:t>
            </a:r>
            <a:r>
              <a:rPr b="0" lang="en-US" sz="2900" spc="-1" strike="noStrike">
                <a:solidFill>
                  <a:srgbClr val="000000"/>
                </a:solidFill>
                <a:latin typeface="Calibri"/>
                <a:ea typeface="Calibri"/>
              </a:rPr>
              <a:t> avec le slogan « Achetez notre logiciel de traduction et demander à des amis de l'installer, vous pourrez ainsi </a:t>
            </a:r>
            <a:r>
              <a:rPr b="1" lang="en-US" sz="2900" spc="-1" strike="noStrike">
                <a:solidFill>
                  <a:srgbClr val="000000"/>
                </a:solidFill>
                <a:latin typeface="Calibri"/>
                <a:ea typeface="Calibri"/>
              </a:rPr>
              <a:t>accéder à leurs ordinateurs sans autorisation</a:t>
            </a:r>
            <a:r>
              <a:rPr b="0" lang="en-US" sz="2900" spc="-1" strike="noStrike">
                <a:solidFill>
                  <a:srgbClr val="000000"/>
                </a:solidFill>
                <a:latin typeface="Calibri"/>
                <a:ea typeface="Calibri"/>
              </a:rPr>
              <a:t>! »</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200240"/>
            <a:ext cx="8499600" cy="5338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u terme de la présente session, les participants pourront :</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700" spc="-1" strike="noStrike">
              <a:solidFill>
                <a:srgbClr val="000000"/>
              </a:solidFill>
              <a:latin typeface="Arial"/>
            </a:endParaRPr>
          </a:p>
          <a:p>
            <a:pPr marL="339480" indent="-3394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Appliquer les dispositions de la Convention de Budapest et les législations nationales correspondantes aux études de cas portant sur le droit matériel, la procédure et la coopération internationale</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15B2C8-B062-4755-BC1D-C95B4C83C8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158760" y="422280"/>
            <a:ext cx="8528040" cy="6299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Abus de dispositif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lorsqu' ils sont commis intentionnellement et sans droi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production, la </a:t>
            </a:r>
            <a:r>
              <a:rPr b="1" lang="en-US" sz="2900" spc="-1" strike="noStrike">
                <a:solidFill>
                  <a:srgbClr val="000000"/>
                </a:solidFill>
                <a:latin typeface="Calibri"/>
              </a:rPr>
              <a:t>vente</a:t>
            </a:r>
            <a:r>
              <a:rPr b="0" lang="en-US" sz="2900" spc="-1" strike="noStrike">
                <a:solidFill>
                  <a:srgbClr val="000000"/>
                </a:solidFill>
                <a:latin typeface="Calibri"/>
              </a:rPr>
              <a:t>, l’obtention pour utilisation, l’importation, la </a:t>
            </a:r>
            <a:r>
              <a:rPr b="1" lang="en-US" sz="2900" spc="-1" strike="noStrike">
                <a:solidFill>
                  <a:srgbClr val="000000"/>
                </a:solidFill>
                <a:latin typeface="Calibri"/>
              </a:rPr>
              <a:t>diffusion</a:t>
            </a:r>
            <a:r>
              <a:rPr b="0" lang="en-US" sz="2900" spc="-1" strike="noStrike">
                <a:solidFill>
                  <a:srgbClr val="000000"/>
                </a:solidFill>
                <a:latin typeface="Calibri"/>
              </a:rPr>
              <a:t> ou d’autres formes de mise à disposition:</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d’un dispositif, y compris un </a:t>
            </a:r>
            <a:r>
              <a:rPr b="1" lang="en-US" sz="2900" spc="-1" strike="noStrike">
                <a:solidFill>
                  <a:srgbClr val="000000"/>
                </a:solidFill>
                <a:latin typeface="Calibri"/>
              </a:rPr>
              <a:t>programme informatique</a:t>
            </a:r>
            <a:r>
              <a:rPr b="0" lang="en-US" sz="2900" spc="-1" strike="noStrike">
                <a:solidFill>
                  <a:srgbClr val="000000"/>
                </a:solidFill>
                <a:latin typeface="Calibri"/>
              </a:rPr>
              <a:t>, </a:t>
            </a:r>
            <a:r>
              <a:rPr b="1" lang="en-US" sz="2900" spc="-1" strike="noStrike">
                <a:solidFill>
                  <a:srgbClr val="000000"/>
                </a:solidFill>
                <a:latin typeface="Calibri"/>
              </a:rPr>
              <a:t>principalement conçu ou adapté pour permettre la commission de l’une des infractions </a:t>
            </a:r>
            <a:r>
              <a:rPr b="0" lang="en-US" sz="2900" spc="-1" strike="noStrike">
                <a:solidFill>
                  <a:srgbClr val="000000"/>
                </a:solidFill>
                <a:latin typeface="Calibri"/>
              </a:rPr>
              <a:t>établies conformément aux articles 2 à 5 ci -dessus;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ns l’ intention qu’ils soient utilisés afin de commettre l’une ou l’autre des infractions visées par les articles 2 à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29464-8B0F-4095-A9B9-A450D713E1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5723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droit interne vous permet peut-être d’identifier l'infraction </a:t>
            </a:r>
            <a:r>
              <a:rPr b="1" lang="en-US" sz="3200" spc="-1" strike="noStrike">
                <a:solidFill>
                  <a:srgbClr val="000000"/>
                </a:solidFill>
                <a:latin typeface="Calibri"/>
              </a:rPr>
              <a:t>d’abus de dispositifs </a:t>
            </a:r>
            <a:r>
              <a:rPr b="0" lang="en-US" sz="3200" spc="-1" strike="noStrike">
                <a:solidFill>
                  <a:srgbClr val="000000"/>
                </a:solidFill>
                <a:latin typeface="Calibri"/>
              </a:rPr>
              <a:t>(article 6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 s’agit de la </a:t>
            </a:r>
            <a:r>
              <a:rPr b="1" lang="en-US" sz="3200" spc="-1" strike="noStrike">
                <a:solidFill>
                  <a:srgbClr val="000000"/>
                </a:solidFill>
                <a:latin typeface="Calibri"/>
              </a:rPr>
              <a:t>vente</a:t>
            </a:r>
            <a:r>
              <a:rPr b="0" lang="en-US" sz="3200" spc="-1" strike="noStrike">
                <a:solidFill>
                  <a:srgbClr val="000000"/>
                </a:solidFill>
                <a:latin typeface="Calibri"/>
              </a:rPr>
              <a:t>, de la </a:t>
            </a:r>
            <a:r>
              <a:rPr b="1" lang="en-US" sz="3200" spc="-1" strike="noStrike">
                <a:solidFill>
                  <a:srgbClr val="000000"/>
                </a:solidFill>
                <a:latin typeface="Calibri"/>
              </a:rPr>
              <a:t>distribution</a:t>
            </a:r>
            <a:r>
              <a:rPr b="0" lang="en-US" sz="3200" spc="-1" strike="noStrike">
                <a:solidFill>
                  <a:srgbClr val="000000"/>
                </a:solidFill>
                <a:latin typeface="Calibri"/>
              </a:rPr>
              <a:t> ou de la </a:t>
            </a:r>
            <a:r>
              <a:rPr b="1" lang="en-US" sz="3200" spc="-1" strike="noStrike">
                <a:solidFill>
                  <a:srgbClr val="000000"/>
                </a:solidFill>
                <a:latin typeface="Calibri"/>
              </a:rPr>
              <a:t>mise à disposition </a:t>
            </a:r>
            <a:r>
              <a:rPr b="0" lang="en-US" sz="3200" spc="-1" strike="noStrike">
                <a:solidFill>
                  <a:srgbClr val="000000"/>
                </a:solidFill>
                <a:latin typeface="Calibri"/>
              </a:rPr>
              <a:t>d'un </a:t>
            </a:r>
            <a:r>
              <a:rPr b="1" lang="en-US" sz="3200" spc="-1" strike="noStrike">
                <a:solidFill>
                  <a:srgbClr val="000000"/>
                </a:solidFill>
                <a:latin typeface="Calibri"/>
              </a:rPr>
              <a:t>logiciel de traduction</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 logiciel de traduction est </a:t>
            </a:r>
            <a:r>
              <a:rPr b="1" lang="en-US" sz="3200" spc="-1" strike="noStrike">
                <a:solidFill>
                  <a:srgbClr val="000000"/>
                </a:solidFill>
                <a:latin typeface="Calibri"/>
              </a:rPr>
              <a:t>principalement conçu</a:t>
            </a:r>
            <a:r>
              <a:rPr b="0" lang="en-US" sz="3200" spc="-1" strike="noStrike">
                <a:solidFill>
                  <a:srgbClr val="000000"/>
                </a:solidFill>
                <a:latin typeface="Calibri"/>
              </a:rPr>
              <a:t> pour commettre l'infraction </a:t>
            </a:r>
            <a:r>
              <a:rPr b="1" lang="en-US" sz="3200" spc="-1" strike="noStrike">
                <a:solidFill>
                  <a:srgbClr val="000000"/>
                </a:solidFill>
                <a:latin typeface="Calibri"/>
              </a:rPr>
              <a:t>d'accès illégal </a:t>
            </a:r>
            <a:r>
              <a:rPr b="0" lang="en-US" sz="3200" spc="-1" strike="noStrike">
                <a:solidFill>
                  <a:srgbClr val="000000"/>
                </a:solidFill>
                <a:latin typeface="Calibri"/>
              </a:rPr>
              <a:t>(article 2 de la Convention de Budapes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e </a:t>
            </a:r>
            <a:r>
              <a:rPr b="1" lang="en-US" sz="3200" spc="-1" strike="noStrike">
                <a:solidFill>
                  <a:srgbClr val="000000"/>
                </a:solidFill>
                <a:latin typeface="Calibri"/>
              </a:rPr>
              <a:t>logiciel est vendu </a:t>
            </a:r>
            <a:r>
              <a:rPr b="0" lang="en-US" sz="3200" spc="-1" strike="noStrike">
                <a:solidFill>
                  <a:srgbClr val="000000"/>
                </a:solidFill>
                <a:latin typeface="Calibri"/>
              </a:rPr>
              <a:t>avec </a:t>
            </a:r>
            <a:r>
              <a:rPr b="1" lang="en-US" sz="3200" spc="-1" strike="noStrike">
                <a:solidFill>
                  <a:srgbClr val="000000"/>
                </a:solidFill>
                <a:latin typeface="Calibri"/>
              </a:rPr>
              <a:t>l'intention qu'il soit utilisé pour commettre un accès illégal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F65A21-D6D3-467E-A2ED-9AB1AB3089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BBD5A-80A0-494E-83B5-B2E1637B3D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4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Avez-vous commis une infraction de cybercriminalité </a:t>
            </a:r>
            <a:r>
              <a:rPr b="1" lang="en-US" sz="2900" spc="-1" strike="noStrike">
                <a:solidFill>
                  <a:srgbClr val="000000"/>
                </a:solidFill>
                <a:latin typeface="Calibri"/>
                <a:ea typeface="Calibri"/>
              </a:rPr>
              <a:t>en achetant des codes d'accès </a:t>
            </a:r>
            <a:r>
              <a:rPr b="0" lang="en-US" sz="2900" spc="-1" strike="noStrike">
                <a:solidFill>
                  <a:srgbClr val="000000"/>
                </a:solidFill>
                <a:latin typeface="Calibri"/>
                <a:ea typeface="Calibri"/>
              </a:rPr>
              <a:t>sur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E7722-4251-40B4-82A2-E75F2EAECB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Pour tenter d'</a:t>
            </a:r>
            <a:r>
              <a:rPr b="1" lang="en-US" sz="3200" spc="-1" strike="noStrike">
                <a:solidFill>
                  <a:srgbClr val="000000"/>
                </a:solidFill>
                <a:latin typeface="Calibri"/>
                <a:ea typeface="Calibri"/>
              </a:rPr>
              <a:t>identifier</a:t>
            </a:r>
            <a:r>
              <a:rPr b="0" lang="en-US" sz="3200" spc="-1" strike="noStrike">
                <a:solidFill>
                  <a:srgbClr val="000000"/>
                </a:solidFill>
                <a:latin typeface="Calibri"/>
                <a:ea typeface="Calibri"/>
              </a:rPr>
              <a:t> </a:t>
            </a:r>
            <a:r>
              <a:rPr b="1" lang="en-US" sz="3200" spc="-1" strike="noStrike">
                <a:solidFill>
                  <a:srgbClr val="000000"/>
                </a:solidFill>
                <a:latin typeface="Calibri"/>
                <a:ea typeface="Calibri"/>
              </a:rPr>
              <a:t>les personnes qui exploitent DarkHacker</a:t>
            </a:r>
            <a:r>
              <a:rPr b="0" lang="en-US" sz="3200" spc="-1" strike="noStrike">
                <a:solidFill>
                  <a:srgbClr val="000000"/>
                </a:solidFill>
                <a:latin typeface="Calibri"/>
                <a:ea typeface="Calibri"/>
              </a:rPr>
              <a:t>, vous menez une opération secrète pour </a:t>
            </a:r>
            <a:r>
              <a:rPr b="1" lang="en-US" sz="3200" spc="-1" strike="noStrike">
                <a:solidFill>
                  <a:srgbClr val="000000"/>
                </a:solidFill>
                <a:latin typeface="Calibri"/>
                <a:ea typeface="Calibri"/>
              </a:rPr>
              <a:t>acheter des codes d'accès aux systèmes informatiques</a:t>
            </a:r>
            <a:r>
              <a:rPr b="0" lang="en-US"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0" y="1004760"/>
            <a:ext cx="91440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Abus de dispositif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lorsqu' ils sont commis intentionnellement et </a:t>
            </a:r>
            <a:r>
              <a:rPr b="1" lang="en-US" sz="3000" spc="-1" strike="noStrike">
                <a:solidFill>
                  <a:srgbClr val="000000"/>
                </a:solidFill>
                <a:latin typeface="Calibri"/>
              </a:rPr>
              <a:t>sans droit</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production, la vente, </a:t>
            </a:r>
            <a:r>
              <a:rPr b="1" lang="en-US" sz="3000" spc="-1" strike="noStrike">
                <a:solidFill>
                  <a:srgbClr val="000000"/>
                </a:solidFill>
                <a:latin typeface="Calibri"/>
              </a:rPr>
              <a:t>l’obtention pour utilisation</a:t>
            </a:r>
            <a:r>
              <a:rPr b="0" lang="en-US" sz="3000" spc="-1" strike="noStrike">
                <a:solidFill>
                  <a:srgbClr val="000000"/>
                </a:solidFill>
                <a:latin typeface="Calibri"/>
              </a:rPr>
              <a:t>, l’importation, la diffusion ou d’autres formes de mise à disposition:</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i. un mot de passe, un </a:t>
            </a:r>
            <a:r>
              <a:rPr b="1" lang="en-US" sz="3000" spc="-1" strike="noStrike">
                <a:solidFill>
                  <a:srgbClr val="000000"/>
                </a:solidFill>
                <a:latin typeface="Calibri"/>
              </a:rPr>
              <a:t>code d’accès </a:t>
            </a:r>
            <a:r>
              <a:rPr b="0" lang="en-US" sz="3000" spc="-1" strike="noStrike">
                <a:solidFill>
                  <a:srgbClr val="000000"/>
                </a:solidFill>
                <a:latin typeface="Calibri"/>
              </a:rPr>
              <a:t>ou des données informatiques similaires </a:t>
            </a:r>
            <a:r>
              <a:rPr b="1" lang="en-US" sz="3000" spc="-1" strike="noStrike">
                <a:solidFill>
                  <a:srgbClr val="000000"/>
                </a:solidFill>
                <a:latin typeface="Calibri"/>
              </a:rPr>
              <a:t>permettant d’accéder à tout ou partie d’un système d’inform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ns </a:t>
            </a:r>
            <a:r>
              <a:rPr b="1" lang="en-US" sz="3000" spc="-1" strike="noStrike">
                <a:solidFill>
                  <a:srgbClr val="000000"/>
                </a:solidFill>
                <a:latin typeface="Calibri"/>
              </a:rPr>
              <a:t>l’intention qu’ils soient utilisés afin de commettre l’une ou l’autre des infractions visées par les articles 2 à 5</a:t>
            </a:r>
            <a:r>
              <a:rPr b="0" lang="en-US" sz="3000" spc="-1" strike="noStrike">
                <a:solidFill>
                  <a:srgbClr val="000000"/>
                </a:solidFill>
                <a:latin typeface="Calibri"/>
              </a:rPr>
              <a:t>.</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AA71E-59AA-4CC2-984D-A9F44217C8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801720"/>
            <a:ext cx="9144000" cy="60562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lon le droit interne, votre comportement </a:t>
            </a:r>
            <a:r>
              <a:rPr b="1" lang="en-US" sz="3200" spc="-1" strike="noStrike">
                <a:solidFill>
                  <a:srgbClr val="000000"/>
                </a:solidFill>
                <a:latin typeface="Calibri"/>
              </a:rPr>
              <a:t>n’est pas une infraction </a:t>
            </a:r>
            <a:r>
              <a:rPr b="0" lang="en-US" sz="3200" spc="-1" strike="noStrike">
                <a:solidFill>
                  <a:srgbClr val="000000"/>
                </a:solidFill>
                <a:latin typeface="Calibri"/>
              </a:rPr>
              <a:t>au sens de l'article 6 de la Convention de Budapest parce qu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tre comportement n’est pas nécessairement </a:t>
            </a:r>
            <a:r>
              <a:rPr b="1" lang="en-US" sz="3200" spc="-1" strike="noStrike">
                <a:solidFill>
                  <a:srgbClr val="000000"/>
                </a:solidFill>
                <a:latin typeface="Calibri"/>
              </a:rPr>
              <a:t>sans droit </a:t>
            </a:r>
            <a:r>
              <a:rPr b="0" lang="en-US" sz="3200" spc="-1" strike="noStrike">
                <a:solidFill>
                  <a:srgbClr val="000000"/>
                </a:solidFill>
                <a:latin typeface="Calibri"/>
              </a:rPr>
              <a:t>(si l'opération secrète a une base juridique ou administrativ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a:t>
            </a:r>
            <a:r>
              <a:rPr b="1" lang="en-US" sz="3200" spc="-1" strike="noStrike">
                <a:solidFill>
                  <a:srgbClr val="000000"/>
                </a:solidFill>
                <a:latin typeface="Calibri"/>
              </a:rPr>
              <a:t>aux fins d’utilis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n'avez pas obtenu les codes d'accès dans </a:t>
            </a:r>
            <a:r>
              <a:rPr b="1" lang="en-US" sz="3200" spc="-1" strike="noStrike">
                <a:solidFill>
                  <a:srgbClr val="000000"/>
                </a:solidFill>
                <a:latin typeface="Calibri"/>
              </a:rPr>
              <a:t>l'intention de les utiliser pour commettre une infraction </a:t>
            </a:r>
            <a:r>
              <a:rPr b="0" lang="en-US" sz="3200" spc="-1" strike="noStrike">
                <a:solidFill>
                  <a:srgbClr val="000000"/>
                </a:solidFill>
                <a:latin typeface="Calibri"/>
              </a:rPr>
              <a:t>en vertu des articles 2 à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71493-1A60-4C68-8F0A-F97758B771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II</a:t>
            </a:r>
            <a:br>
              <a:rPr sz="4000"/>
            </a:br>
            <a:r>
              <a:rPr b="1" lang="en-US" sz="4000" spc="-1" strike="noStrike">
                <a:solidFill>
                  <a:srgbClr val="000000"/>
                </a:solidFill>
                <a:latin typeface="Calibri"/>
              </a:rPr>
              <a:t>Droit procédur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94C16-7BB2-40A3-BA91-3DA00E58AC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CCD44-985A-4B75-B3C9-1EF26CF914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70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Dans le cadre de l'opération secrète, vous </a:t>
            </a:r>
            <a:r>
              <a:rPr b="1" lang="fr-FR" sz="3100" spc="-1" strike="noStrike">
                <a:solidFill>
                  <a:srgbClr val="000000"/>
                </a:solidFill>
                <a:latin typeface="Calibri"/>
                <a:ea typeface="Calibri"/>
              </a:rPr>
              <a:t>obtenez des codes d'accès</a:t>
            </a:r>
            <a:r>
              <a:rPr b="0" lang="fr-FR" sz="3100" spc="-1" strike="noStrike">
                <a:solidFill>
                  <a:srgbClr val="000000"/>
                </a:solidFill>
                <a:latin typeface="Calibri"/>
                <a:ea typeface="Calibri"/>
              </a:rPr>
              <a:t> et des informations de paiement auprès d'un agent de DarkHacker. Vous recevez un </a:t>
            </a:r>
            <a:r>
              <a:rPr b="1" lang="fr-FR" sz="3100" spc="-1" strike="noStrike">
                <a:solidFill>
                  <a:srgbClr val="000000"/>
                </a:solidFill>
                <a:latin typeface="Calibri"/>
                <a:ea typeface="Calibri"/>
              </a:rPr>
              <a:t>message</a:t>
            </a:r>
            <a:r>
              <a:rPr b="0" lang="fr-FR" sz="3100" spc="-1" strike="noStrike">
                <a:solidFill>
                  <a:srgbClr val="000000"/>
                </a:solidFill>
                <a:latin typeface="Calibri"/>
                <a:ea typeface="Calibri"/>
              </a:rPr>
              <a:t> d'un compte électronique payant </a:t>
            </a:r>
            <a:r>
              <a:rPr b="1" lang="fr-FR" sz="3100" spc="-1" strike="noStrike">
                <a:solidFill>
                  <a:srgbClr val="000000"/>
                </a:solidFill>
                <a:latin typeface="Calibri"/>
                <a:ea typeface="Calibri"/>
              </a:rPr>
              <a:t>criminal@scammail.com</a:t>
            </a:r>
            <a:r>
              <a:rPr b="0" lang="fr-FR" sz="3100" spc="-1" strike="noStrike">
                <a:solidFill>
                  <a:srgbClr val="000000"/>
                </a:solidFill>
                <a:latin typeface="Calibri"/>
                <a:ea typeface="Calibri"/>
              </a:rPr>
              <a:t> ainsi qu’un lien de téléchargement vers les codes d'accès. </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ea typeface="Calibri"/>
              </a:rPr>
              <a:t>Votre enquête initiale révèle que le </a:t>
            </a:r>
            <a:r>
              <a:rPr b="1" lang="fr-FR" sz="3100" spc="-1" strike="noStrike">
                <a:solidFill>
                  <a:srgbClr val="000000"/>
                </a:solidFill>
                <a:latin typeface="Calibri"/>
                <a:ea typeface="Calibri"/>
              </a:rPr>
              <a:t>fournisseur de secriminal@scammail.comrvices de messagerie </a:t>
            </a:r>
            <a:r>
              <a:rPr b="0" lang="fr-FR" sz="3100" spc="-1" strike="noStrike">
                <a:solidFill>
                  <a:srgbClr val="000000"/>
                </a:solidFill>
                <a:latin typeface="Calibri"/>
                <a:ea typeface="Calibri"/>
              </a:rPr>
              <a:t>pour est Scam Mail Inc. Or le </a:t>
            </a:r>
            <a:r>
              <a:rPr b="1" lang="fr-FR" sz="3100" spc="-1" strike="noStrike">
                <a:solidFill>
                  <a:srgbClr val="000000"/>
                </a:solidFill>
                <a:latin typeface="Calibri"/>
                <a:ea typeface="Calibri"/>
              </a:rPr>
              <a:t>siège social et le centre de données</a:t>
            </a:r>
            <a:r>
              <a:rPr b="0" lang="fr-FR" sz="3100" spc="-1" strike="noStrike">
                <a:solidFill>
                  <a:srgbClr val="000000"/>
                </a:solidFill>
                <a:latin typeface="Calibri"/>
                <a:ea typeface="Calibri"/>
              </a:rPr>
              <a:t> de Scam Mail Inc se trouvent sur le territoire de </a:t>
            </a:r>
            <a:r>
              <a:rPr b="1" lang="fr-FR" sz="3100" spc="-1" strike="noStrike">
                <a:solidFill>
                  <a:srgbClr val="000000"/>
                </a:solidFill>
                <a:latin typeface="Calibri"/>
                <a:ea typeface="Calibri"/>
              </a:rPr>
              <a:t>Middle Earth</a:t>
            </a:r>
            <a:r>
              <a:rPr b="0" lang="fr-FR" sz="3100" spc="-1" strike="noStrike">
                <a:solidFill>
                  <a:srgbClr val="000000"/>
                </a:solidFill>
                <a:latin typeface="Calibri"/>
                <a:ea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0F0B6-926F-40A4-802B-7A56859C3F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0" y="227160"/>
            <a:ext cx="898380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apprenez sur son site internet que </a:t>
            </a:r>
            <a:r>
              <a:rPr b="1" lang="fr-FR" sz="2900" spc="-1" strike="noStrike">
                <a:solidFill>
                  <a:srgbClr val="000000"/>
                </a:solidFill>
                <a:latin typeface="Calibri"/>
                <a:ea typeface="Calibri"/>
              </a:rPr>
              <a:t>Scamm Mail Inc. conserve les données pendant une période de 7 jours </a:t>
            </a:r>
            <a:r>
              <a:rPr b="0" lang="fr-FR" sz="2900" spc="-1" strike="noStrike">
                <a:solidFill>
                  <a:srgbClr val="000000"/>
                </a:solidFill>
                <a:latin typeface="Calibri"/>
                <a:ea typeface="Calibri"/>
              </a:rPr>
              <a:t>et qu’elles sont supprimées après ce délai.</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es </a:t>
            </a:r>
            <a:r>
              <a:rPr b="1" lang="fr-FR" sz="2900" spc="-1" strike="noStrike">
                <a:solidFill>
                  <a:srgbClr val="000000"/>
                </a:solidFill>
                <a:latin typeface="Calibri"/>
                <a:ea typeface="Calibri"/>
              </a:rPr>
              <a:t>adresses de messagerie électronique pour identifier l'agent de DarkHacker</a:t>
            </a:r>
            <a:r>
              <a:rPr b="0" lang="fr-FR"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fr-FR" sz="2900" spc="-1" strike="noStrike">
                <a:solidFill>
                  <a:srgbClr val="000000"/>
                </a:solidFill>
                <a:latin typeface="Calibri"/>
                <a:ea typeface="Calibri"/>
              </a:rPr>
              <a:t>d'obtenir des informations d'autres personnes inconnues qui ont été contactées par le biais du compte de messagerie </a:t>
            </a:r>
            <a:r>
              <a:rPr b="1" lang="fr-FR" sz="2900" spc="-1" strike="noStrike" u="sng">
                <a:solidFill>
                  <a:srgbClr val="000000"/>
                </a:solidFill>
                <a:uFillTx/>
                <a:latin typeface="Calibri"/>
                <a:ea typeface="Calibri"/>
              </a:rPr>
              <a:t>criminal@scammail.com</a:t>
            </a:r>
            <a:r>
              <a:rPr b="1" lang="fr-FR" sz="2900" spc="-1" strike="noStrike">
                <a:solidFill>
                  <a:srgbClr val="000000"/>
                </a:solidFill>
                <a:latin typeface="Calibri"/>
                <a:ea typeface="Calibri"/>
              </a:rPr>
              <a:t> au cours des 7 derniers jours</a:t>
            </a:r>
            <a:r>
              <a:rPr b="0" lang="fr-FR" sz="2900" spc="-1" strike="noStrike">
                <a:solidFill>
                  <a:srgbClr val="000000"/>
                </a:solidFill>
                <a:latin typeface="Calibri"/>
                <a:ea typeface="Calibri"/>
              </a:rPr>
              <a:t>.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5393B-141A-46F8-9585-BF056A265D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160200" y="431640"/>
            <a:ext cx="868680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Quelles mesures initiales devez-vous prendre pour que le processus d'enquête ne soit pas mis en éche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 </a:t>
            </a:r>
            <a:br>
              <a:rPr sz="4000"/>
            </a:br>
            <a:r>
              <a:rPr b="1" lang="en-US" sz="4000" spc="-1" strike="noStrike">
                <a:solidFill>
                  <a:srgbClr val="000000"/>
                </a:solidFill>
                <a:latin typeface="Calibri"/>
              </a:rPr>
              <a:t>Introduction à l'étude de c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0640B-0630-4577-A2B7-A15371A8A0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7450D-64C5-4761-9AD0-EB29C82DC9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pprenez sur son site internet que Scamm Mail Inc. </a:t>
            </a:r>
            <a:r>
              <a:rPr b="1" lang="en-US" sz="2900" spc="-1" strike="noStrike">
                <a:solidFill>
                  <a:srgbClr val="000000"/>
                </a:solidFill>
                <a:latin typeface="Calibri"/>
                <a:ea typeface="Calibri"/>
              </a:rPr>
              <a:t>ne conserve les données que pendant une période de 7 jours </a:t>
            </a:r>
            <a:r>
              <a:rPr b="0" lang="en-US" sz="2900" spc="-1" strike="noStrike">
                <a:solidFill>
                  <a:srgbClr val="000000"/>
                </a:solidFill>
                <a:latin typeface="Calibri"/>
                <a:ea typeface="Calibri"/>
              </a:rPr>
              <a:t>et qu’elles sont </a:t>
            </a:r>
            <a:r>
              <a:rPr b="1" lang="en-US" sz="2900" spc="-1" strike="noStrike">
                <a:solidFill>
                  <a:srgbClr val="000000"/>
                </a:solidFill>
                <a:latin typeface="Calibri"/>
                <a:ea typeface="Calibri"/>
              </a:rPr>
              <a:t>toutes supprimées après ce délai</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618660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Conservation rapide de données informatiques stocké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onner la </a:t>
            </a:r>
            <a:r>
              <a:rPr b="1" lang="en-US" sz="3000" spc="-1" strike="noStrike">
                <a:solidFill>
                  <a:srgbClr val="000000"/>
                </a:solidFill>
                <a:latin typeface="Calibri"/>
              </a:rPr>
              <a:t>conservation rapide </a:t>
            </a:r>
            <a:r>
              <a:rPr b="0" lang="en-US" sz="3000" spc="-1" strike="noStrike">
                <a:solidFill>
                  <a:srgbClr val="000000"/>
                </a:solidFill>
                <a:latin typeface="Calibri"/>
              </a:rPr>
              <a:t>de </a:t>
            </a:r>
            <a:r>
              <a:rPr b="1" lang="en-US" sz="3000" spc="-1" strike="noStrike">
                <a:solidFill>
                  <a:srgbClr val="000000"/>
                </a:solidFill>
                <a:latin typeface="Calibri"/>
              </a:rPr>
              <a:t>données électroniques spécifiées</a:t>
            </a:r>
            <a:r>
              <a:rPr b="0" lang="en-US" sz="3000" spc="-1" strike="noStrike">
                <a:solidFill>
                  <a:srgbClr val="000000"/>
                </a:solidFill>
                <a:latin typeface="Calibri"/>
              </a:rPr>
              <a:t>, y compris des données relatives au trafic, </a:t>
            </a:r>
            <a:r>
              <a:rPr b="1" lang="en-US" sz="3000" spc="-1" strike="noStrike">
                <a:solidFill>
                  <a:srgbClr val="000000"/>
                </a:solidFill>
                <a:latin typeface="Calibri"/>
              </a:rPr>
              <a:t>stockées au moyen d'un système informatique</a:t>
            </a:r>
            <a:r>
              <a:rPr b="0" lang="en-US" sz="3000" spc="-1" strike="noStrike">
                <a:solidFill>
                  <a:srgbClr val="000000"/>
                </a:solidFill>
                <a:latin typeface="Calibri"/>
              </a:rPr>
              <a:t>, notamment lorsqu'il y a des </a:t>
            </a:r>
            <a:r>
              <a:rPr b="1" lang="en-US" sz="3000" spc="-1" strike="noStrike">
                <a:solidFill>
                  <a:srgbClr val="000000"/>
                </a:solidFill>
                <a:latin typeface="Calibri"/>
              </a:rPr>
              <a:t>raisons de penser</a:t>
            </a:r>
            <a:r>
              <a:rPr b="0" lang="en-US" sz="3000" spc="-1" strike="noStrike">
                <a:solidFill>
                  <a:srgbClr val="000000"/>
                </a:solidFill>
                <a:latin typeface="Calibri"/>
              </a:rPr>
              <a:t> que celles-ci sont </a:t>
            </a:r>
            <a:r>
              <a:rPr b="1" lang="en-US" sz="3000" spc="-1" strike="noStrike">
                <a:solidFill>
                  <a:srgbClr val="000000"/>
                </a:solidFill>
                <a:latin typeface="Calibri"/>
              </a:rPr>
              <a:t>particulièrement susceptibles de perte ou de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r cette personne à </a:t>
            </a:r>
            <a:r>
              <a:rPr b="1" lang="en-US" sz="3000" spc="-1" strike="noStrike">
                <a:solidFill>
                  <a:srgbClr val="000000"/>
                </a:solidFill>
                <a:latin typeface="Calibri"/>
              </a:rPr>
              <a:t>préserver et à maintenir l'intégrité</a:t>
            </a:r>
            <a:r>
              <a:rPr b="0" lang="en-US" sz="3000" spc="-1" strike="noStrike">
                <a:solidFill>
                  <a:srgbClr val="000000"/>
                </a:solidFill>
                <a:latin typeface="Calibri"/>
              </a:rPr>
              <a:t> de ces données informatiques pendant une période aussi longue que nécessaire, </a:t>
            </a:r>
            <a:r>
              <a:rPr b="1" lang="en-US" sz="3000" spc="-1" strike="noStrike">
                <a:solidFill>
                  <a:srgbClr val="000000"/>
                </a:solidFill>
                <a:latin typeface="Calibri"/>
              </a:rPr>
              <a:t>jusqu' à un maximum de quatre-vingt-dix jour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818BF-73AD-4CC1-8C75-137F741F00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ez prendre la </a:t>
            </a:r>
            <a:r>
              <a:rPr b="1" lang="en-US" sz="3200" spc="-1" strike="noStrike">
                <a:solidFill>
                  <a:srgbClr val="000000"/>
                </a:solidFill>
                <a:latin typeface="Calibri"/>
              </a:rPr>
              <a:t>mesure initiale</a:t>
            </a:r>
            <a:r>
              <a:rPr b="0" lang="en-US" sz="3200" spc="-1" strike="noStrike">
                <a:solidFill>
                  <a:srgbClr val="000000"/>
                </a:solidFill>
                <a:latin typeface="Calibri"/>
              </a:rPr>
              <a:t> qui consiste à </a:t>
            </a:r>
            <a:r>
              <a:rPr b="1" lang="en-US" sz="3200" spc="-1" strike="noStrike">
                <a:solidFill>
                  <a:srgbClr val="000000"/>
                </a:solidFill>
                <a:latin typeface="Calibri"/>
              </a:rPr>
              <a:t>assurer la conservation rapide des données informatiques stockées</a:t>
            </a:r>
            <a:r>
              <a:rPr b="0" lang="en-US"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s </a:t>
            </a:r>
            <a:r>
              <a:rPr b="1" lang="en-US" sz="3200" spc="-1" strike="noStrike">
                <a:solidFill>
                  <a:srgbClr val="000000"/>
                </a:solidFill>
                <a:latin typeface="Calibri"/>
              </a:rPr>
              <a:t>données</a:t>
            </a:r>
            <a:r>
              <a:rPr b="0" lang="en-US" sz="3200" spc="-1" strike="noStrike">
                <a:solidFill>
                  <a:srgbClr val="000000"/>
                </a:solidFill>
                <a:latin typeface="Calibri"/>
              </a:rPr>
              <a:t> stockées par Scam Mail Inc </a:t>
            </a:r>
            <a:r>
              <a:rPr b="1" lang="en-US" sz="3200" spc="-1" strike="noStrike">
                <a:solidFill>
                  <a:srgbClr val="000000"/>
                </a:solidFill>
                <a:latin typeface="Calibri"/>
              </a:rPr>
              <a:t>sont particulièrement susceptibles de perte</a:t>
            </a:r>
            <a:r>
              <a:rPr b="0" lang="en-US" sz="3200" spc="-1" strike="noStrike">
                <a:solidFill>
                  <a:srgbClr val="000000"/>
                </a:solidFill>
                <a:latin typeface="Calibri"/>
              </a:rPr>
              <a:t> </a:t>
            </a:r>
            <a:r>
              <a:rPr b="1" lang="en-US" sz="3200" spc="-1" strike="noStrike">
                <a:solidFill>
                  <a:srgbClr val="000000"/>
                </a:solidFill>
                <a:latin typeface="Calibri"/>
              </a:rPr>
              <a:t>en raison de sa politique de conserva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a:t>
            </a:r>
            <a:r>
              <a:rPr b="1" lang="en-US" sz="3200" spc="-1" strike="noStrike">
                <a:solidFill>
                  <a:srgbClr val="000000"/>
                </a:solidFill>
                <a:latin typeface="Calibri"/>
              </a:rPr>
              <a:t>rechercher la conservation de toutes les données informatiques stockées </a:t>
            </a:r>
            <a:r>
              <a:rPr b="0" lang="en-US" sz="3200" spc="-1" strike="noStrike">
                <a:solidFill>
                  <a:srgbClr val="000000"/>
                </a:solidFill>
                <a:latin typeface="Calibri"/>
              </a:rPr>
              <a:t>(données de contenu et données relatives au trafic) </a:t>
            </a:r>
            <a:r>
              <a:rPr b="1" lang="en-US" sz="3200" spc="-1" strike="noStrike">
                <a:solidFill>
                  <a:srgbClr val="000000"/>
                </a:solidFill>
                <a:latin typeface="Calibri"/>
              </a:rPr>
              <a:t>liées au compte </a:t>
            </a:r>
            <a:r>
              <a:rPr b="1" lang="en-US" sz="3200" spc="-1" strike="noStrike" u="sng">
                <a:solidFill>
                  <a:srgbClr val="000000"/>
                </a:solidFill>
                <a:uFillTx/>
                <a:latin typeface="Calibri"/>
              </a:rPr>
              <a:t>criminal@scammail.com</a:t>
            </a:r>
            <a:r>
              <a:rPr b="0" lang="en-US" sz="3200" spc="-1" strike="noStrike">
                <a:solidFill>
                  <a:srgbClr val="00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ous devriez chercher à ce que Scam Mail Inc. </a:t>
            </a:r>
            <a:r>
              <a:rPr b="1" lang="en-US" sz="3200" spc="-1" strike="noStrike">
                <a:solidFill>
                  <a:srgbClr val="000000"/>
                </a:solidFill>
                <a:latin typeface="Calibri"/>
              </a:rPr>
              <a:t>conserve l'intégrité des données conservées</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3E57F-6386-4896-8B12-D58B671025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18F45-C1F1-4290-9DE1-2E4BFF28FA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se criminal@scammail.com?</a:t>
            </a:r>
            <a:r>
              <a:rPr b="1" lang="en-US" sz="2900" spc="-1" strike="noStrike">
                <a:solidFill>
                  <a:srgbClr val="ff0000"/>
                </a:solidFill>
                <a:latin typeface="Calibri"/>
                <a:ea typeface="Calibri"/>
              </a:rPr>
              <a:t> </a:t>
            </a:r>
            <a:r>
              <a:rPr b="1" lang="en-US" sz="2900" spc="-1" strike="noStrike">
                <a:solidFill>
                  <a:srgbClr val="000000"/>
                </a:solidFill>
                <a:latin typeface="Calibri"/>
                <a:ea typeface="Calibri"/>
              </a:rPr>
              <a:t>Comment pouvez-vous obtenir ces informations auprès de Scam Mail Inc?</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650F2-CFDA-4D97-AAEC-76B4731AD4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tre enquête initiale révèle que le </a:t>
            </a:r>
            <a:r>
              <a:rPr b="1" lang="en-US" sz="2900" spc="-1" strike="noStrike">
                <a:solidFill>
                  <a:srgbClr val="000000"/>
                </a:solidFill>
                <a:latin typeface="Calibri"/>
                <a:ea typeface="Calibri"/>
              </a:rPr>
              <a:t>fournisseur de services de messagerie </a:t>
            </a:r>
            <a:r>
              <a:rPr b="0" lang="en-US" sz="2900" spc="-1" strike="noStrike">
                <a:solidFill>
                  <a:srgbClr val="000000"/>
                </a:solidFill>
                <a:latin typeface="Calibri"/>
                <a:ea typeface="Calibri"/>
              </a:rPr>
              <a:t>pour </a:t>
            </a:r>
            <a:r>
              <a:rPr b="1" lang="en-US" sz="2900" spc="-1" strike="noStrike">
                <a:solidFill>
                  <a:srgbClr val="000000"/>
                </a:solidFill>
                <a:latin typeface="Calibri"/>
                <a:ea typeface="Calibri"/>
              </a:rPr>
              <a:t>criminal@scammail.com</a:t>
            </a:r>
            <a:r>
              <a:rPr b="0" lang="en-US" sz="2900" spc="-1" strike="noStrike">
                <a:solidFill>
                  <a:srgbClr val="000000"/>
                </a:solidFill>
                <a:latin typeface="Calibri"/>
                <a:ea typeface="Calibri"/>
              </a:rPr>
              <a:t> est Scam Mail Inc,, dont </a:t>
            </a:r>
            <a:r>
              <a:rPr b="1" lang="en-US" sz="2900" spc="-1" strike="noStrike">
                <a:solidFill>
                  <a:srgbClr val="000000"/>
                </a:solidFill>
                <a:latin typeface="Calibri"/>
                <a:ea typeface="Calibri"/>
              </a:rPr>
              <a:t>le siège social et le centre de données se trouvent sur le territoire de  Middle Earth</a:t>
            </a:r>
            <a:r>
              <a:rPr b="0" lang="en-US"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envisagez d'utiliser les </a:t>
            </a:r>
            <a:r>
              <a:rPr b="1" lang="en-US" sz="2900" spc="-1" strike="noStrike">
                <a:solidFill>
                  <a:srgbClr val="000000"/>
                </a:solidFill>
                <a:latin typeface="Calibri"/>
                <a:ea typeface="Calibri"/>
              </a:rPr>
              <a:t>adresses de messagerie électronique</a:t>
            </a:r>
            <a:r>
              <a:rPr b="0" lang="en-US" sz="2900" spc="-1" strike="noStrike">
                <a:solidFill>
                  <a:srgbClr val="000000"/>
                </a:solidFill>
                <a:latin typeface="Calibri"/>
                <a:ea typeface="Calibri"/>
              </a:rPr>
              <a:t> pour identifier </a:t>
            </a:r>
            <a:r>
              <a:rPr b="1" lang="en-US" sz="2900" spc="-1" strike="noStrike">
                <a:solidFill>
                  <a:srgbClr val="000000"/>
                </a:solidFill>
                <a:latin typeface="Calibri"/>
                <a:ea typeface="Calibri"/>
              </a:rPr>
              <a:t>l'agent d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a:t>
            </a:r>
            <a:r>
              <a:rPr b="1" lang="en-US" sz="2800" spc="-1" strike="noStrike">
                <a:solidFill>
                  <a:srgbClr val="000000"/>
                </a:solidFill>
                <a:latin typeface="Calibri"/>
              </a:rPr>
              <a:t>données informatiques </a:t>
            </a:r>
            <a:r>
              <a:rPr b="0" lang="en-US" sz="2800" spc="-1" strike="noStrike">
                <a:solidFill>
                  <a:srgbClr val="000000"/>
                </a:solidFill>
                <a:latin typeface="Calibri"/>
              </a:rPr>
              <a:t>ou sous </a:t>
            </a:r>
            <a:r>
              <a:rPr b="1" lang="en-US" sz="2800" spc="-1" strike="noStrike">
                <a:solidFill>
                  <a:srgbClr val="000000"/>
                </a:solidFill>
                <a:latin typeface="Calibri"/>
              </a:rPr>
              <a:t>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a:t>
            </a:r>
            <a:r>
              <a:rPr b="1" lang="en-US" sz="2800" spc="-1" strike="noStrike">
                <a:solidFill>
                  <a:srgbClr val="000000"/>
                </a:solidFill>
                <a:latin typeface="Calibri"/>
              </a:rPr>
              <a:t>et 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 et le 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E35F1-873B-4338-A7BC-0CA022BE62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à </a:t>
            </a:r>
            <a:r>
              <a:rPr b="1" lang="en-US" sz="2800" spc="-1" strike="noStrike">
                <a:solidFill>
                  <a:srgbClr val="000000"/>
                </a:solidFill>
                <a:latin typeface="Calibri"/>
              </a:rPr>
              <a:t>un fournisseur de services offrant des prestations sur le territoire </a:t>
            </a:r>
            <a:r>
              <a:rPr b="0" lang="en-US" sz="2800" spc="-1" strike="noStrike">
                <a:solidFill>
                  <a:srgbClr val="000000"/>
                </a:solidFill>
                <a:latin typeface="Calibri"/>
              </a:rPr>
              <a:t>de la Partie, de </a:t>
            </a:r>
            <a:r>
              <a:rPr b="1" lang="en-US" sz="2800" spc="-1" strike="noStrike">
                <a:solidFill>
                  <a:srgbClr val="000000"/>
                </a:solidFill>
                <a:latin typeface="Calibri"/>
              </a:rPr>
              <a:t>communiquer les données en sa possession ou sous son contrôle relatives aux abonnés et concernant de tels servic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B9D69-AA19-4439-9D32-A9A00F1B47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fontScale="97000"/>
          </a:bodyPr>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rmettront d’identifier l'identité, l'adresse postale ou géographique, le téléphone, tout autre numéro d'accès ou les données de facturation et de paiement </a:t>
            </a:r>
            <a:r>
              <a:rPr b="1" lang="en-US" sz="2900" spc="-1" strike="noStrike">
                <a:solidFill>
                  <a:srgbClr val="000000"/>
                </a:solidFill>
                <a:latin typeface="Calibri"/>
              </a:rPr>
              <a:t>de l'abonné qui utilise le compte </a:t>
            </a:r>
            <a:r>
              <a:rPr b="1" lang="en-US" sz="2900" spc="-1" strike="noStrike" u="sng">
                <a:solidFill>
                  <a:srgbClr val="000000"/>
                </a:solidFill>
                <a:uFillTx/>
                <a:latin typeface="Calibri"/>
              </a:rPr>
              <a:t>criminal@scammail.com</a:t>
            </a: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27600" indent="-27216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n fonction du droit interne, les </a:t>
            </a:r>
            <a:r>
              <a:rPr b="1" lang="en-US" sz="2900" spc="-1" strike="noStrike">
                <a:solidFill>
                  <a:srgbClr val="000000"/>
                </a:solidFill>
                <a:latin typeface="Calibri"/>
              </a:rPr>
              <a:t>informations relatives à l’abonné </a:t>
            </a:r>
            <a:r>
              <a:rPr b="0" lang="en-US" sz="2900" spc="-1" strike="noStrike">
                <a:solidFill>
                  <a:srgbClr val="000000"/>
                </a:solidFill>
                <a:latin typeface="Calibri"/>
              </a:rPr>
              <a:t>peuvent être obtenues par une </a:t>
            </a:r>
            <a:r>
              <a:rPr b="1" lang="en-US" sz="2900" spc="-1" strike="noStrike">
                <a:solidFill>
                  <a:srgbClr val="000000"/>
                </a:solidFill>
                <a:latin typeface="Calibri"/>
              </a:rPr>
              <a:t>injonction de produire </a:t>
            </a:r>
            <a:r>
              <a:rPr b="0" lang="en-US" sz="2900" spc="-1" strike="noStrike">
                <a:solidFill>
                  <a:srgbClr val="000000"/>
                </a:solidFill>
                <a:latin typeface="Calibri"/>
              </a:rPr>
              <a:t>qui contraindra Scam Mail Inc. à </a:t>
            </a:r>
            <a:r>
              <a:rPr b="1" lang="en-US" sz="2900" spc="-1" strike="noStrike">
                <a:solidFill>
                  <a:srgbClr val="000000"/>
                </a:solidFill>
                <a:latin typeface="Calibri"/>
              </a:rPr>
              <a:t>soumettre des informations sur les abonnés liés au compte </a:t>
            </a:r>
            <a:r>
              <a:rPr b="1" lang="en-US" sz="2900" spc="-1" strike="noStrike" u="sng">
                <a:solidFill>
                  <a:srgbClr val="000000"/>
                </a:solidFill>
                <a:uFillTx/>
                <a:latin typeface="Calibri"/>
              </a:rPr>
              <a:t>criminal@scammail.com</a:t>
            </a:r>
            <a:r>
              <a:rPr b="0" lang="en-US" sz="2900" spc="-1" strike="noStrike">
                <a:solidFill>
                  <a:srgbClr val="000000"/>
                </a:solidFill>
                <a:latin typeface="Calibri"/>
              </a:rPr>
              <a:t> </a:t>
            </a:r>
            <a:r>
              <a:rPr b="1" lang="en-US" sz="2900" spc="-1" strike="noStrike">
                <a:solidFill>
                  <a:srgbClr val="000000"/>
                </a:solidFill>
                <a:latin typeface="Calibri"/>
              </a:rPr>
              <a:t>en sa possession ou contrôle</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3EBCB-3167-4AB3-A5DC-F652B36284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80574-D272-4E39-9653-FF75071260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Comment pourriez-vous obtenir des renseignements auprès de Scam Mail Inc. concernant d'autres personnes contactées par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 au cours des sept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B1911-7E6F-4668-8A74-5FF748AB33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Les renseignements que vous obtenez suggèrent que l’ampleur des opérations est beaucoup plus importante que prévu. Vous pensez qu'il est désormais nécessaire </a:t>
            </a:r>
            <a:r>
              <a:rPr b="1" lang="en-US" sz="2900" spc="-1" strike="noStrike">
                <a:solidFill>
                  <a:srgbClr val="000000"/>
                </a:solidFill>
                <a:latin typeface="Calibri"/>
                <a:ea typeface="Calibri"/>
              </a:rPr>
              <a:t>d'obtenir des informations d'autres personnes inconnues contactées par le biais </a:t>
            </a:r>
            <a:r>
              <a:rPr b="0" lang="en-US" sz="2900" spc="-1" strike="noStrike">
                <a:solidFill>
                  <a:srgbClr val="000000"/>
                </a:solidFill>
                <a:latin typeface="Calibri"/>
                <a:ea typeface="Calibri"/>
              </a:rPr>
              <a:t>du compte de messagerie électronique </a:t>
            </a:r>
            <a:r>
              <a:rPr b="1" lang="en-US" sz="2900" spc="-1" strike="noStrike" u="sng">
                <a:solidFill>
                  <a:srgbClr val="000000"/>
                </a:solidFill>
                <a:uFillTx/>
                <a:latin typeface="Calibri"/>
                <a:ea typeface="Calibri"/>
              </a:rPr>
              <a:t>criminal@scammail.com</a:t>
            </a:r>
            <a:r>
              <a:rPr b="0" lang="en-US" sz="2900" spc="-1" strike="noStrike">
                <a:solidFill>
                  <a:srgbClr val="000000"/>
                </a:solidFill>
                <a:latin typeface="Calibri"/>
                <a:ea typeface="Calibri"/>
              </a:rPr>
              <a:t> au cours des 7 derniers jou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E0190-BFCE-4836-8B10-18306F34FA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à une personne présente sur son territoire de </a:t>
            </a:r>
            <a:r>
              <a:rPr b="1" lang="en-US" sz="2800" spc="-1" strike="noStrike">
                <a:solidFill>
                  <a:srgbClr val="000000"/>
                </a:solidFill>
                <a:latin typeface="Calibri"/>
              </a:rPr>
              <a:t>communiquer les données informatiques spécifiées</a:t>
            </a:r>
            <a:r>
              <a:rPr b="0" lang="en-US" sz="2800" spc="-1" strike="noStrike">
                <a:solidFill>
                  <a:srgbClr val="000000"/>
                </a:solidFill>
                <a:latin typeface="Calibri"/>
              </a:rPr>
              <a:t>, </a:t>
            </a:r>
            <a:r>
              <a:rPr b="1" lang="en-US" sz="2800" spc="-1" strike="noStrike">
                <a:solidFill>
                  <a:srgbClr val="000000"/>
                </a:solidFill>
                <a:latin typeface="Calibri"/>
              </a:rPr>
              <a:t>en sa possession ou sous son contrôle</a:t>
            </a:r>
            <a:r>
              <a:rPr b="0" lang="en-US" sz="2800" spc="-1" strike="noStrike">
                <a:solidFill>
                  <a:srgbClr val="000000"/>
                </a:solidFill>
                <a:latin typeface="Calibri"/>
              </a:rPr>
              <a:t>, qui sont </a:t>
            </a:r>
            <a:r>
              <a:rPr b="1" lang="en-US" sz="2800" spc="-1" strike="noStrike">
                <a:solidFill>
                  <a:srgbClr val="000000"/>
                </a:solidFill>
                <a:latin typeface="Calibri"/>
              </a:rPr>
              <a:t>stockées dans un système informatique </a:t>
            </a:r>
            <a:r>
              <a:rPr b="0" lang="en-US" sz="2800" spc="-1" strike="noStrike">
                <a:solidFill>
                  <a:srgbClr val="000000"/>
                </a:solidFill>
                <a:latin typeface="Calibri"/>
              </a:rPr>
              <a:t>ou un support de stockage informatique</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FB1CA-3D70-4155-8BA5-DC9B6BFC2E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39600" y="139680"/>
            <a:ext cx="9183600" cy="6718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ur identifier les autres personnes contactées par l'utilisateur d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vous devrez obtenir les données suivante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contenu </a:t>
            </a:r>
            <a:r>
              <a:rPr b="0" lang="en-US" sz="2800" spc="-1" strike="noStrike">
                <a:solidFill>
                  <a:srgbClr val="000000"/>
                </a:solidFill>
                <a:latin typeface="Calibri"/>
              </a:rPr>
              <a:t>(pour vérifier le contenu messages envoyés)</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données de trafic </a:t>
            </a:r>
            <a:r>
              <a:rPr b="0" lang="en-US" sz="2800" spc="-1" strike="noStrike">
                <a:solidFill>
                  <a:srgbClr val="000000"/>
                </a:solidFill>
                <a:latin typeface="Calibri"/>
              </a:rPr>
              <a:t>(pour déterminer la destination des messages envoyés)</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 fonction du droit interne,  vous pouvez </a:t>
            </a:r>
            <a:r>
              <a:rPr b="1" lang="en-US" sz="2800" spc="-1" strike="noStrike">
                <a:solidFill>
                  <a:srgbClr val="000000"/>
                </a:solidFill>
                <a:latin typeface="Calibri"/>
              </a:rPr>
              <a:t>adresser une injonction de produire à Scam Mail Inc. pour contraindre cette société à communiquer toutes les données informatiques relatives au compte </a:t>
            </a:r>
            <a:r>
              <a:rPr b="1" lang="en-US" sz="2800" spc="-1" strike="noStrike" u="sng">
                <a:solidFill>
                  <a:srgbClr val="000000"/>
                </a:solidFill>
                <a:uFillTx/>
                <a:latin typeface="Calibri"/>
              </a:rPr>
              <a:t>criminal@scammail.com</a:t>
            </a:r>
            <a:r>
              <a:rPr b="0" lang="en-US" sz="2800" spc="-1" strike="noStrike">
                <a:solidFill>
                  <a:srgbClr val="000000"/>
                </a:solidFill>
                <a:latin typeface="Calibri"/>
              </a:rPr>
              <a:t> en sa possession ou sous son contrôle dans son centre de donnée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748C9-467C-4DFA-8FD7-0C60ADD862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IV</a:t>
            </a:r>
            <a:br>
              <a:rPr sz="4000"/>
            </a:br>
            <a:r>
              <a:rPr b="1" lang="en-US" sz="4000" spc="-1" strike="noStrike">
                <a:solidFill>
                  <a:srgbClr val="000000"/>
                </a:solidFill>
                <a:latin typeface="Calibri"/>
              </a:rPr>
              <a:t>Autres formes de coopé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913A2-D31E-4E07-ABFC-9FC16A0675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CC58F-A381-423C-B37B-ED3AA6AAAB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0" y="444600"/>
            <a:ext cx="914400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a:solidFill>
                  <a:srgbClr val="000000"/>
                </a:solidFill>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d'utiliser l’adresse électronique pour identifier l'agent de DarkHacker. Votre enquête initiale révèle que Hack Mail Inc (siège social au Mordor) n'a ni bureau ni centres informatiques sur le territoire de Middle Earth, mais que cette société a récemment publié dans ce pays des publicités sur ses services gratuits en langue locale. </a:t>
            </a:r>
            <a:br>
              <a:rPr sz="2900"/>
            </a:br>
            <a:br>
              <a:rPr sz="2900"/>
            </a:br>
            <a:r>
              <a:rPr b="0" lang="fr-FR" sz="2900" spc="-1" strike="noStrike">
                <a:solidFill>
                  <a:srgbClr val="000000"/>
                </a:solidFill>
                <a:latin typeface="Calibri"/>
                <a:ea typeface="Calibri"/>
              </a:rPr>
              <a:t>Hackmail Inc. stocke des informations sur les abonnés sous forme de données informatiqu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C846D-72BE-47C2-948A-4FED2012DE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plusieurs personnes de Mordor ont déclaré dans des forums publics qu’elles avaient été victimes d'incidents frauduleux qui auraient été commis par l'utilisateur de  </a:t>
            </a:r>
            <a:r>
              <a:rPr b="1" lang="en-US" sz="2900" spc="-1" strike="noStrike">
                <a:solidFill>
                  <a:srgbClr val="000000"/>
                </a:solidFill>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ces plaintes comme preuve dans une procédure ultérieure. En outre, vous communiquez avec ces personnes pour obtenir des informations et elles sont disposées à vous donner accès à leurs comptes de messagerie et à leurs messages électron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7A3EA-9AD7-40A1-B713-CFBE658B48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De quel type d'informations avez-vous besoin pour identifier la personne qui utilize </a:t>
            </a:r>
            <a:r>
              <a:rPr b="1" lang="en-US" sz="2900" spc="-1" strike="noStrike" u="sng">
                <a:solidFill>
                  <a:srgbClr val="000000"/>
                </a:solidFill>
                <a:uFillTx/>
                <a:latin typeface="Calibri"/>
                <a:ea typeface="Calibri"/>
              </a:rPr>
              <a:t>criminal@scammail.com</a:t>
            </a:r>
            <a:r>
              <a:rPr b="1" lang="en-US" sz="2900" spc="-1" strike="noStrike">
                <a:solidFill>
                  <a:srgbClr val="000000"/>
                </a:solidFill>
                <a:latin typeface="Calibri"/>
                <a:ea typeface="Calibri"/>
              </a:rPr>
              <a:t>?</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le est la mesure la plus rapide pour obtenir de telles informations auprès de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660E5-1CE4-4093-800A-731E0A55F2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0" y="162000"/>
            <a:ext cx="89614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Cliquez sur le lien pour télécharger le code d'accès et recevez un autre message électronique provenant d'un compte de messagerie gratuit </a:t>
            </a:r>
            <a:r>
              <a:rPr b="1" lang="fr-FR" sz="2900" spc="-1" strike="noStrike" u="sng">
                <a:solidFill>
                  <a:srgbClr val="000000"/>
                </a:solidFill>
                <a:uFillTx/>
                <a:latin typeface="Calibri"/>
                <a:ea typeface="Calibri"/>
              </a:rPr>
              <a:t>fraud@hackmail.com</a:t>
            </a:r>
            <a:r>
              <a:rPr b="0" lang="fr-FR" sz="2900" spc="-1" strike="noStrike">
                <a:solidFill>
                  <a:srgbClr val="000000"/>
                </a:solidFill>
                <a:latin typeface="Calibri"/>
                <a:ea typeface="Calibri"/>
              </a:rPr>
              <a:t> et contenant des coordonnées bancaire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ea typeface="Calibri"/>
              </a:rPr>
              <a:t>Vous envisagez </a:t>
            </a:r>
            <a:r>
              <a:rPr b="1" lang="fr-FR" sz="2900" spc="-1" strike="noStrike">
                <a:solidFill>
                  <a:srgbClr val="000000"/>
                </a:solidFill>
                <a:latin typeface="Calibri"/>
                <a:ea typeface="Calibri"/>
              </a:rPr>
              <a:t>d'utiliser l’adresse électronique </a:t>
            </a:r>
            <a:r>
              <a:rPr b="0" lang="fr-FR" sz="2900" spc="-1" strike="noStrike">
                <a:solidFill>
                  <a:srgbClr val="000000"/>
                </a:solidFill>
                <a:latin typeface="Calibri"/>
                <a:ea typeface="Calibri"/>
              </a:rPr>
              <a:t>pour </a:t>
            </a:r>
            <a:r>
              <a:rPr b="1" lang="fr-FR" sz="2900" spc="-1" strike="noStrike">
                <a:solidFill>
                  <a:srgbClr val="000000"/>
                </a:solidFill>
                <a:latin typeface="Calibri"/>
                <a:ea typeface="Calibri"/>
              </a:rPr>
              <a:t>identifier l'agent de DarkHacker</a:t>
            </a:r>
            <a:r>
              <a:rPr b="0" lang="fr-FR" sz="2900" spc="-1" strike="noStrike">
                <a:solidFill>
                  <a:srgbClr val="000000"/>
                </a:solidFill>
                <a:latin typeface="Calibri"/>
                <a:ea typeface="Calibri"/>
              </a:rPr>
              <a:t>. Votre enquête initiale révèle que </a:t>
            </a:r>
            <a:r>
              <a:rPr b="1" lang="fr-FR" sz="2900" spc="-1" strike="noStrike">
                <a:solidFill>
                  <a:srgbClr val="000000"/>
                </a:solidFill>
                <a:latin typeface="Calibri"/>
                <a:ea typeface="Calibri"/>
              </a:rPr>
              <a:t>Hack Mail Inc (siège social au Mordor) n'a ni bureau ni centres informatiques sur le territoire de Middle Earth</a:t>
            </a:r>
            <a:r>
              <a:rPr b="0" lang="fr-FR" sz="2900" spc="-1" strike="noStrike">
                <a:solidFill>
                  <a:srgbClr val="000000"/>
                </a:solidFill>
                <a:latin typeface="Calibri"/>
                <a:ea typeface="Calibri"/>
              </a:rPr>
              <a:t>, mais que cette société a récemment </a:t>
            </a:r>
            <a:r>
              <a:rPr b="1" lang="fr-FR" sz="2900" spc="-1" strike="noStrike">
                <a:solidFill>
                  <a:srgbClr val="000000"/>
                </a:solidFill>
                <a:latin typeface="Calibri"/>
                <a:ea typeface="Calibri"/>
              </a:rPr>
              <a:t>publié dans ce pays des publicités</a:t>
            </a:r>
            <a:r>
              <a:rPr b="0" lang="fr-FR" sz="2900" spc="-1" strike="noStrike">
                <a:solidFill>
                  <a:srgbClr val="000000"/>
                </a:solidFill>
                <a:latin typeface="Calibri"/>
                <a:ea typeface="Calibri"/>
              </a:rPr>
              <a:t> sur ses services gratuits </a:t>
            </a:r>
            <a:r>
              <a:rPr b="1" lang="fr-FR" sz="2900" spc="-1" strike="noStrike">
                <a:solidFill>
                  <a:srgbClr val="000000"/>
                </a:solidFill>
                <a:latin typeface="Calibri"/>
                <a:ea typeface="Calibri"/>
              </a:rPr>
              <a:t>en langue locale</a:t>
            </a:r>
            <a:r>
              <a:rPr b="0" lang="fr-FR" sz="2900" spc="-1" strike="noStrike">
                <a:solidFill>
                  <a:srgbClr val="000000"/>
                </a:solidFill>
                <a:latin typeface="Calibri"/>
                <a:ea typeface="Calibri"/>
              </a:rPr>
              <a:t>. </a:t>
            </a:r>
            <a:br>
              <a:rPr sz="2900"/>
            </a:br>
            <a:br>
              <a:rPr sz="2900"/>
            </a:br>
            <a:r>
              <a:rPr b="0" lang="fr-FR" sz="2900" spc="-1" strike="noStrike">
                <a:solidFill>
                  <a:srgbClr val="000000"/>
                </a:solidFill>
                <a:latin typeface="Calibri"/>
                <a:ea typeface="Calibri"/>
              </a:rPr>
              <a:t>Hackmail Inc. stocke </a:t>
            </a:r>
            <a:r>
              <a:rPr b="1" lang="fr-FR" sz="2900" spc="-1" strike="noStrike">
                <a:solidFill>
                  <a:srgbClr val="000000"/>
                </a:solidFill>
                <a:latin typeface="Calibri"/>
                <a:ea typeface="Calibri"/>
              </a:rPr>
              <a:t>des informations sur les abonnés </a:t>
            </a:r>
            <a:r>
              <a:rPr b="0" lang="fr-FR" sz="2900" spc="-1" strike="noStrike">
                <a:solidFill>
                  <a:srgbClr val="000000"/>
                </a:solidFill>
                <a:latin typeface="Calibri"/>
                <a:ea typeface="Calibri"/>
              </a:rPr>
              <a:t>sous forme de </a:t>
            </a:r>
            <a:r>
              <a:rPr b="1" lang="fr-FR" sz="2900" spc="-1" strike="noStrike">
                <a:solidFill>
                  <a:srgbClr val="000000"/>
                </a:solidFill>
                <a:latin typeface="Calibri"/>
                <a:ea typeface="Calibri"/>
              </a:rPr>
              <a:t>données informatiques</a:t>
            </a:r>
            <a:r>
              <a:rPr b="0" lang="fr-FR"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0" y="923760"/>
            <a:ext cx="89838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x fins du présent article, l’expression «données relatives aux abonnés» désigne toute </a:t>
            </a:r>
            <a:r>
              <a:rPr b="1" lang="en-US" sz="2800" spc="-1" strike="noStrike">
                <a:solidFill>
                  <a:srgbClr val="000000"/>
                </a:solidFill>
                <a:latin typeface="Calibri"/>
              </a:rPr>
              <a:t>information</a:t>
            </a:r>
            <a:r>
              <a:rPr b="0" lang="en-US" sz="2800" spc="-1" strike="noStrike">
                <a:solidFill>
                  <a:srgbClr val="000000"/>
                </a:solidFill>
                <a:latin typeface="Calibri"/>
              </a:rPr>
              <a:t>, sous forme de données informatiques ou </a:t>
            </a:r>
            <a:r>
              <a:rPr b="1" lang="en-US" sz="2800" spc="-1" strike="noStrike">
                <a:solidFill>
                  <a:srgbClr val="000000"/>
                </a:solidFill>
                <a:latin typeface="Calibri"/>
              </a:rPr>
              <a:t>sous toute autre forme</a:t>
            </a:r>
            <a:r>
              <a:rPr b="0" lang="en-US" sz="2800" spc="-1" strike="noStrike">
                <a:solidFill>
                  <a:srgbClr val="000000"/>
                </a:solidFill>
                <a:latin typeface="Calibri"/>
              </a:rPr>
              <a:t>, détenue par un fournisseur de services et </a:t>
            </a:r>
            <a:r>
              <a:rPr b="1" lang="en-US" sz="2800" spc="-1" strike="noStrike">
                <a:solidFill>
                  <a:srgbClr val="000000"/>
                </a:solidFill>
                <a:latin typeface="Calibri"/>
              </a:rPr>
              <a:t>se rapportant aux abonnés de ses services</a:t>
            </a:r>
            <a:r>
              <a:rPr b="0" lang="en-US" sz="2800" spc="-1" strike="noStrike">
                <a:solidFill>
                  <a:srgbClr val="000000"/>
                </a:solidFill>
                <a:latin typeface="Calibri"/>
              </a:rPr>
              <a:t>, autres que des données relatives au trafic ou au contenu, et </a:t>
            </a:r>
            <a:r>
              <a:rPr b="1" lang="en-US" sz="2800" spc="-1" strike="noStrike">
                <a:solidFill>
                  <a:srgbClr val="000000"/>
                </a:solidFill>
                <a:latin typeface="Calibri"/>
              </a:rPr>
              <a:t>permettant d’établir</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l’identité, l’adresse postale ou géographique et le numéro de téléphone de l’abonné,</a:t>
            </a:r>
            <a:r>
              <a:rPr b="0" lang="en-US" sz="2800" spc="-1" strike="noStrike">
                <a:solidFill>
                  <a:srgbClr val="000000"/>
                </a:solidFill>
                <a:latin typeface="Calibri"/>
              </a:rPr>
              <a:t> et tout autre numéro d’accès, les </a:t>
            </a:r>
            <a:r>
              <a:rPr b="1" lang="en-US" sz="2800" spc="-1" strike="noStrike">
                <a:solidFill>
                  <a:srgbClr val="000000"/>
                </a:solidFill>
                <a:latin typeface="Calibri"/>
              </a:rPr>
              <a:t>données concernant la facturation</a:t>
            </a:r>
            <a:r>
              <a:rPr b="0" lang="en-US" sz="2800" spc="-1" strike="noStrike">
                <a:solidFill>
                  <a:srgbClr val="000000"/>
                </a:solidFill>
                <a:latin typeface="Calibri"/>
              </a:rPr>
              <a:t> et le </a:t>
            </a:r>
            <a:r>
              <a:rPr b="1" lang="en-US" sz="2800" spc="-1" strike="noStrike">
                <a:solidFill>
                  <a:srgbClr val="000000"/>
                </a:solidFill>
                <a:latin typeface="Calibri"/>
              </a:rPr>
              <a:t>paiement</a:t>
            </a:r>
            <a:r>
              <a:rPr b="0" lang="en-US" sz="2800" spc="-1" strike="noStrike">
                <a:solidFill>
                  <a:srgbClr val="000000"/>
                </a:solidFill>
                <a:latin typeface="Calibri"/>
              </a:rPr>
              <a:t>, disponibles sur la base d’un contrat ou d’un arrangement de services;</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E2335-BB38-4ABE-88CF-8C2D165DD4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Injonction de produir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utorités compétentes d’ordonn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a:t>
            </a:r>
            <a:r>
              <a:rPr b="0" lang="en-US" sz="2800" spc="-1" strike="noStrike">
                <a:solidFill>
                  <a:srgbClr val="ff0000"/>
                </a:solidFill>
                <a:latin typeface="Calibri"/>
              </a:rPr>
              <a:t> à un fournisseur de services offrant des prestations sur le territoire </a:t>
            </a:r>
            <a:r>
              <a:rPr b="0" lang="en-US" sz="2800" spc="-1" strike="noStrike">
                <a:solidFill>
                  <a:srgbClr val="000000"/>
                </a:solidFill>
                <a:latin typeface="Calibri"/>
              </a:rPr>
              <a:t>de la Partie, </a:t>
            </a:r>
            <a:r>
              <a:rPr b="0" lang="en-US" sz="2800" spc="-1" strike="noStrike">
                <a:solidFill>
                  <a:srgbClr val="ff0000"/>
                </a:solidFill>
                <a:latin typeface="Calibri"/>
              </a:rPr>
              <a:t>de communiquer les données en sa possession ou sous son contrôle relatives aux abonnés et concernant de tels services.</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054F5-A641-4D41-B10F-7788D98B86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0" y="171360"/>
            <a:ext cx="9144000" cy="65502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s </a:t>
            </a:r>
            <a:r>
              <a:rPr b="1" lang="en-US" sz="2800" spc="-1" strike="noStrike">
                <a:solidFill>
                  <a:srgbClr val="000000"/>
                </a:solidFill>
                <a:latin typeface="Calibri"/>
              </a:rPr>
              <a:t>informations sur les abonnés</a:t>
            </a:r>
            <a:r>
              <a:rPr b="0" lang="en-US" sz="2800" spc="-1" strike="noStrike">
                <a:solidFill>
                  <a:srgbClr val="000000"/>
                </a:solidFill>
                <a:latin typeface="Calibri"/>
              </a:rPr>
              <a:t> permettront d’identifie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dentité, l'adresse postale ou géographique, le téléphone, tout autre numéro d'accès ou les données de facturation et de paiement de l'abonné qui utilise le compte </a:t>
            </a:r>
            <a:r>
              <a:rPr b="1" lang="en-US" sz="2800" spc="-1" strike="noStrike" u="sng">
                <a:solidFill>
                  <a:srgbClr val="000000"/>
                </a:solidFill>
                <a:uFillTx/>
                <a:latin typeface="Calibri"/>
              </a:rPr>
              <a:t>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 fonction du droit interne, les </a:t>
            </a:r>
            <a:r>
              <a:rPr b="1" lang="en-US" sz="2800" spc="-1" strike="noStrike">
                <a:solidFill>
                  <a:srgbClr val="000000"/>
                </a:solidFill>
                <a:latin typeface="Calibri"/>
              </a:rPr>
              <a:t>informations relatives aux abonnés peuvent être obtenues par</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e demande d’entraide </a:t>
            </a:r>
            <a:r>
              <a:rPr b="0" lang="en-US" sz="2800" spc="-1" strike="noStrike">
                <a:solidFill>
                  <a:srgbClr val="000000"/>
                </a:solidFill>
                <a:latin typeface="Calibri"/>
              </a:rPr>
              <a:t>concernant l'accès aux données informatiques stockées (parce que les </a:t>
            </a:r>
            <a:r>
              <a:rPr b="1" lang="en-US" sz="2800" spc="-1" strike="noStrike">
                <a:solidFill>
                  <a:srgbClr val="000000"/>
                </a:solidFill>
                <a:latin typeface="Calibri"/>
              </a:rPr>
              <a:t>informations sur les abonnés sont stockées par Hack Mail sous la forme de données informatiqu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une injonction de produire</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7E8DA-FF21-4988-8CF6-E7941F2645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58182-48C1-4E8F-9309-D8D8EABD2E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06280" y="171360"/>
            <a:ext cx="8731440" cy="629784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ns ce cas</a:t>
            </a:r>
            <a:r>
              <a:rPr b="1" lang="en-US" sz="2800" spc="-1" strike="noStrike">
                <a:solidFill>
                  <a:srgbClr val="000000"/>
                </a:solidFill>
                <a:latin typeface="Calibri"/>
              </a:rPr>
              <a:t>, l'injonction de produire est plus appropriée parce que:</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l'article 18 vous permet </a:t>
            </a:r>
            <a:r>
              <a:rPr b="0" lang="en-US" sz="2800" spc="-1" strike="noStrike">
                <a:solidFill>
                  <a:srgbClr val="000000"/>
                </a:solidFill>
                <a:latin typeface="Calibri"/>
              </a:rPr>
              <a:t>d'adresser une </a:t>
            </a:r>
            <a:r>
              <a:rPr b="1" lang="en-US" sz="2800" spc="-1" strike="noStrike">
                <a:solidFill>
                  <a:srgbClr val="000000"/>
                </a:solidFill>
                <a:latin typeface="Calibri"/>
              </a:rPr>
              <a:t>injonction de produire des informations sur les abonnés qui sont en possession et sous le contrôle d’un prestataire de services qui n’est pas physiquement présent sur le territoire de Middle Earth tant qu'il offre des services dans ce pays; </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Les</a:t>
            </a:r>
            <a:r>
              <a:rPr b="1" lang="en-US" sz="2800" spc="-1" strike="noStrike">
                <a:solidFill>
                  <a:srgbClr val="000000"/>
                </a:solidFill>
                <a:latin typeface="Calibri"/>
              </a:rPr>
              <a:t> informations sur les abonnés sont en possession et sous le contrôle de Hack Mail Inc.</a:t>
            </a:r>
            <a:endParaRPr b="0" lang="en-US" sz="2800" spc="-1" strike="noStrike">
              <a:solidFill>
                <a:srgbClr val="000000"/>
              </a:solidFill>
              <a:latin typeface="Arial"/>
            </a:endParaRPr>
          </a:p>
          <a:p>
            <a:pPr lvl="1" marL="1188000" indent="-45252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000000"/>
                </a:solidFill>
                <a:latin typeface="Calibri"/>
              </a:rPr>
              <a:t>Hack Mail Inc offre des services sur le territoire de Middle </a:t>
            </a:r>
            <a:r>
              <a:rPr b="0" lang="en-US" sz="2800" spc="-1" strike="noStrike">
                <a:solidFill>
                  <a:srgbClr val="000000"/>
                </a:solidFill>
                <a:latin typeface="Calibri"/>
              </a:rPr>
              <a:t>Earth parce qu'il compte </a:t>
            </a:r>
            <a:r>
              <a:rPr b="1" lang="en-US" sz="2800" spc="-1" strike="noStrike">
                <a:solidFill>
                  <a:srgbClr val="000000"/>
                </a:solidFill>
                <a:latin typeface="Calibri"/>
              </a:rPr>
              <a:t>des abonnés dans ce pays et qu’il diffuse des publicités en langue locale sur ce territoir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23A99-1DC6-457A-8F72-854B896552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5BD15-0AB1-43BB-888F-3DF3739E7A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ea typeface="Calibri"/>
              </a:rPr>
              <a:t>Quel est le moyen le plus rapide d'obtenir des communications électroniques envoyées aux victimes par l’utilisateur </a:t>
            </a:r>
            <a:r>
              <a:rPr b="1" lang="en-US" sz="2900" spc="-1" strike="noStrike" u="sng">
                <a:solidFill>
                  <a:srgbClr val="000000"/>
                </a:solidFill>
                <a:uFillTx/>
                <a:latin typeface="Calibri"/>
                <a:ea typeface="Calibri"/>
              </a:rPr>
              <a:t>de fraud@hackmail.com</a:t>
            </a:r>
            <a:r>
              <a:rPr b="1" lang="en-US" sz="2900" spc="-1" strike="noStrike">
                <a:solidFill>
                  <a:srgbClr val="000000"/>
                </a:solidFill>
                <a:latin typeface="Calibri"/>
                <a:ea typeface="Calibri"/>
              </a:rPr>
              <a:t>?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EB690-466B-4F91-9BF8-BD06A15345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avez parallèlement appris que </a:t>
            </a:r>
            <a:r>
              <a:rPr b="1" lang="en-US" sz="2900" spc="-1" strike="noStrike">
                <a:solidFill>
                  <a:srgbClr val="000000"/>
                </a:solidFill>
                <a:latin typeface="Calibri"/>
                <a:ea typeface="Calibri"/>
              </a:rPr>
              <a:t>plusieurs personnes de Mordor</a:t>
            </a:r>
            <a:r>
              <a:rPr b="0" lang="en-US" sz="2900" spc="-1" strike="noStrike">
                <a:solidFill>
                  <a:srgbClr val="000000"/>
                </a:solidFill>
                <a:latin typeface="Calibri"/>
                <a:ea typeface="Calibri"/>
              </a:rPr>
              <a:t> ont déclaré dans </a:t>
            </a:r>
            <a:r>
              <a:rPr b="1" lang="en-US" sz="2900" spc="-1" strike="noStrike">
                <a:solidFill>
                  <a:srgbClr val="000000"/>
                </a:solidFill>
                <a:latin typeface="Calibri"/>
                <a:ea typeface="Calibri"/>
              </a:rPr>
              <a:t>des forums publics</a:t>
            </a:r>
            <a:r>
              <a:rPr b="0" lang="en-US" sz="2900" spc="-1" strike="noStrike">
                <a:solidFill>
                  <a:srgbClr val="000000"/>
                </a:solidFill>
                <a:latin typeface="Calibri"/>
                <a:ea typeface="Calibri"/>
              </a:rPr>
              <a:t> qu’elles avaient été </a:t>
            </a:r>
            <a:r>
              <a:rPr b="1" lang="en-US" sz="2900" spc="-1" strike="noStrike">
                <a:solidFill>
                  <a:srgbClr val="000000"/>
                </a:solidFill>
                <a:latin typeface="Calibri"/>
                <a:ea typeface="Calibri"/>
              </a:rPr>
              <a:t>victimes</a:t>
            </a:r>
            <a:r>
              <a:rPr b="0" lang="en-US" sz="2900" spc="-1" strike="noStrike">
                <a:solidFill>
                  <a:srgbClr val="000000"/>
                </a:solidFill>
                <a:latin typeface="Calibri"/>
                <a:ea typeface="Calibri"/>
              </a:rPr>
              <a:t> d'incidents frauduleux qui auraient été commis par l'utilisateur de  </a:t>
            </a:r>
            <a:r>
              <a:rPr b="1" lang="en-US" sz="2900" spc="-1" strike="noStrike" u="sng">
                <a:solidFill>
                  <a:srgbClr val="000000"/>
                </a:solidFill>
                <a:uFillTx/>
                <a:latin typeface="Calibri"/>
                <a:ea typeface="Calibri"/>
              </a:rPr>
              <a:t>fraud@hackmail.com</a:t>
            </a:r>
            <a:r>
              <a:rPr b="0" lang="en-US"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Vous souhaitez utiliser </a:t>
            </a:r>
            <a:r>
              <a:rPr b="1" lang="en-US" sz="2900" spc="-1" strike="noStrike">
                <a:solidFill>
                  <a:srgbClr val="000000"/>
                </a:solidFill>
                <a:latin typeface="Calibri"/>
                <a:ea typeface="Calibri"/>
              </a:rPr>
              <a:t>ces plaintes comme preuve </a:t>
            </a:r>
            <a:r>
              <a:rPr b="0" lang="en-US" sz="2900" spc="-1" strike="noStrike">
                <a:solidFill>
                  <a:srgbClr val="000000"/>
                </a:solidFill>
                <a:latin typeface="Calibri"/>
                <a:ea typeface="Calibri"/>
              </a:rPr>
              <a:t>dans une procédure ultérieure. En outre, vous communiquez avec ces personnes pour obtenir des informations et elles </a:t>
            </a:r>
            <a:r>
              <a:rPr b="1" lang="en-US" sz="2900" spc="-1" strike="noStrike">
                <a:solidFill>
                  <a:srgbClr val="000000"/>
                </a:solidFill>
                <a:latin typeface="Calibri"/>
                <a:ea typeface="Calibri"/>
              </a:rPr>
              <a:t>sont disposées à vous donner accès à leurs comptes de messagerie et à leurs messages électroniques</a:t>
            </a:r>
            <a:r>
              <a:rPr b="0" lang="en-US"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228600"/>
            <a:ext cx="8229600" cy="61768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 Accès transfrontière à des données stockées, avec consentement ou lorsqu’elles sont accessibles au public</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e Partie peut, sans l'autorisation d'une autre Partie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000000"/>
                </a:solidFill>
                <a:latin typeface="Calibri"/>
              </a:rPr>
              <a:t>accéder à des données informatiques stockées accessibles au public (source ouverte)</a:t>
            </a:r>
            <a:r>
              <a:rPr b="0" lang="en-US" sz="2800" spc="-1" strike="noStrike">
                <a:solidFill>
                  <a:srgbClr val="000000"/>
                </a:solidFill>
                <a:latin typeface="Calibri"/>
              </a:rPr>
              <a:t>, </a:t>
            </a:r>
            <a:r>
              <a:rPr b="1" lang="en-US" sz="2800" spc="-1" strike="noStrike">
                <a:solidFill>
                  <a:srgbClr val="000000"/>
                </a:solidFill>
                <a:latin typeface="Calibri"/>
              </a:rPr>
              <a:t>quelle que soit la localisation géographique de ces données</a:t>
            </a:r>
            <a:r>
              <a:rPr b="0" lang="en-US" sz="2800" spc="-1" strike="noStrike">
                <a:solidFill>
                  <a:srgbClr val="000000"/>
                </a:solidFill>
                <a:latin typeface="Calibri"/>
              </a:rPr>
              <a:t>; ou</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000000"/>
                </a:solidFill>
                <a:latin typeface="Calibri"/>
              </a:rPr>
              <a:t>accéder à, ou recevoir au moyen d’un système informatique</a:t>
            </a:r>
            <a:r>
              <a:rPr b="0" lang="en-US" sz="2800" spc="-1" strike="noStrike">
                <a:solidFill>
                  <a:srgbClr val="000000"/>
                </a:solidFill>
                <a:latin typeface="Calibri"/>
              </a:rPr>
              <a:t> situé sur son territoire, </a:t>
            </a:r>
            <a:r>
              <a:rPr b="1" lang="en-US" sz="2800" spc="-1" strike="noStrike">
                <a:solidFill>
                  <a:srgbClr val="000000"/>
                </a:solidFill>
                <a:latin typeface="Calibri"/>
              </a:rPr>
              <a:t>des données informatiques stockées situées dans un autre État</a:t>
            </a:r>
            <a:r>
              <a:rPr b="0" lang="en-US" sz="2800" spc="-1" strike="noStrike">
                <a:solidFill>
                  <a:srgbClr val="000000"/>
                </a:solidFill>
                <a:latin typeface="Calibri"/>
              </a:rPr>
              <a:t>, si la Partie obtient le </a:t>
            </a:r>
            <a:r>
              <a:rPr b="1" lang="en-US" sz="2800" spc="-1" strike="noStrike">
                <a:solidFill>
                  <a:srgbClr val="000000"/>
                </a:solidFill>
                <a:latin typeface="Calibri"/>
              </a:rPr>
              <a:t>consentement légal et volontaire de la personne légalement autorisée </a:t>
            </a:r>
            <a:r>
              <a:rPr b="0" lang="en-US" sz="2800" spc="-1" strike="noStrike">
                <a:solidFill>
                  <a:srgbClr val="000000"/>
                </a:solidFill>
                <a:latin typeface="Calibri"/>
              </a:rPr>
              <a:t>à lui divulguer ces données au moyen de ce système informatique.</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DBC0D-1E6A-46EA-A101-4424227BD7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 fonction du droit interne, vous pouvez </a:t>
            </a:r>
            <a:r>
              <a:rPr b="1" lang="en-US" sz="3200" spc="-1" strike="noStrike">
                <a:solidFill>
                  <a:srgbClr val="000000"/>
                </a:solidFill>
                <a:latin typeface="Calibri"/>
              </a:rPr>
              <a:t>accéder directement </a:t>
            </a:r>
            <a:r>
              <a:rPr b="0" lang="en-US" sz="3200" spc="-1" strike="noStrike">
                <a:solidFill>
                  <a:srgbClr val="000000"/>
                </a:solidFill>
                <a:latin typeface="Calibri"/>
              </a:rPr>
              <a:t>aux </a:t>
            </a:r>
            <a:r>
              <a:rPr b="1" lang="en-US" sz="3200" spc="-1" strike="noStrike">
                <a:solidFill>
                  <a:srgbClr val="000000"/>
                </a:solidFill>
                <a:latin typeface="Calibri"/>
              </a:rPr>
              <a:t>plaintes publiées</a:t>
            </a:r>
            <a:r>
              <a:rPr b="0" lang="en-US" sz="3200" spc="-1" strike="noStrike">
                <a:solidFill>
                  <a:srgbClr val="000000"/>
                </a:solidFill>
                <a:latin typeface="Calibri"/>
              </a:rPr>
              <a:t> sur le forum </a:t>
            </a:r>
            <a:r>
              <a:rPr b="1" lang="en-US" sz="3200" spc="-1" strike="noStrike">
                <a:solidFill>
                  <a:srgbClr val="000000"/>
                </a:solidFill>
                <a:latin typeface="Calibri"/>
              </a:rPr>
              <a:t>sans demander d'entraide judiciaire</a:t>
            </a:r>
            <a:r>
              <a:rPr b="0" lang="en-US" sz="3200" spc="-1" strike="noStrike">
                <a:solidFill>
                  <a:srgbClr val="000000"/>
                </a:solidFill>
                <a:latin typeface="Calibri"/>
              </a:rPr>
              <a:t>.</a:t>
            </a:r>
            <a:r>
              <a:rPr b="1" lang="en-US" sz="3200" spc="-1" strike="noStrike">
                <a:solidFill>
                  <a:srgbClr val="ff0000"/>
                </a:solidFill>
                <a:latin typeface="Calibri"/>
              </a:rPr>
              <a:t> </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e les plaignants qui ont le </a:t>
            </a:r>
            <a:r>
              <a:rPr b="1" lang="en-US" sz="3200" spc="-1" strike="noStrike">
                <a:solidFill>
                  <a:srgbClr val="000000"/>
                </a:solidFill>
                <a:latin typeface="Calibri"/>
              </a:rPr>
              <a:t>pouvoir légal de divulguer</a:t>
            </a:r>
            <a:r>
              <a:rPr b="0" lang="en-US" sz="3200" spc="-1" strike="noStrike">
                <a:solidFill>
                  <a:srgbClr val="000000"/>
                </a:solidFill>
                <a:latin typeface="Calibri"/>
              </a:rPr>
              <a:t> leurs messages électroniques, </a:t>
            </a:r>
            <a:r>
              <a:rPr b="1" lang="en-US" sz="3200" spc="-1" strike="noStrike">
                <a:solidFill>
                  <a:srgbClr val="000000"/>
                </a:solidFill>
                <a:latin typeface="Calibri"/>
              </a:rPr>
              <a:t>ont accepté de vous donner accès </a:t>
            </a:r>
            <a:r>
              <a:rPr b="0" lang="en-US" sz="3200" spc="-1" strike="noStrike">
                <a:solidFill>
                  <a:srgbClr val="000000"/>
                </a:solidFill>
                <a:latin typeface="Calibri"/>
              </a:rPr>
              <a:t>à leurs comptes de messagerie et leurs messages, vous pouvez </a:t>
            </a:r>
            <a:r>
              <a:rPr b="1" lang="en-US" sz="3200" spc="-1" strike="noStrike">
                <a:solidFill>
                  <a:srgbClr val="000000"/>
                </a:solidFill>
                <a:latin typeface="Calibri"/>
              </a:rPr>
              <a:t>consulter tous ces messages pour mener votre enquête</a:t>
            </a:r>
            <a:r>
              <a:rPr b="0" lang="en-US" sz="3200" spc="-1" strike="noStrike">
                <a:solidFill>
                  <a:srgbClr val="000000"/>
                </a:solidFill>
                <a:latin typeface="Calibri"/>
              </a:rPr>
              <a:t>, sans demander d'entraide.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2CC36-DB6F-4679-9777-FF47448CCE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ie V</a:t>
            </a:r>
            <a:br>
              <a:rPr sz="4000"/>
            </a:br>
            <a:r>
              <a:rPr b="1" lang="en-US" sz="4000" spc="-1" strike="noStrike">
                <a:solidFill>
                  <a:srgbClr val="000000"/>
                </a:solidFill>
                <a:latin typeface="Calibri"/>
              </a:rPr>
              <a:t>Entraide judiciair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AFE2B-AD0A-43BC-9DF0-2B3D869F42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E8D14-983D-4A2E-94A3-A7FFE25D22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182520" y="117360"/>
            <a:ext cx="89614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Suite à l'analyse des données obtenues, vous découvrez que la personne responsable de la vente des données et de la prestation des services s’appelle Boris Smith, un ressortissant de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Vous arrêtez Boris Smith dans ce pays et cette personne révèle le lieu où se trouve le système informatique utilisé par DarkHacker au Rohan. L’arrestation de Boris n'étant pas publique, il n'y a aucune raison de penser que les données sont susceptibles d’être perdues ou modifiées.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ea typeface="Calibri"/>
              </a:rPr>
              <a:t>Boris vous informe que le compte </a:t>
            </a:r>
            <a:r>
              <a:rPr b="1" lang="fr-FR" sz="2700" spc="-1" strike="noStrike">
                <a:solidFill>
                  <a:srgbClr val="000000"/>
                </a:solidFill>
                <a:latin typeface="Calibri"/>
                <a:ea typeface="Calibri"/>
              </a:rPr>
              <a:t>fraud@hackmail.com</a:t>
            </a:r>
            <a:r>
              <a:rPr b="0" lang="fr-FR" sz="2700" spc="-1" strike="noStrike">
                <a:solidFill>
                  <a:srgbClr val="000000"/>
                </a:solidFill>
                <a:latin typeface="Calibri"/>
                <a:ea typeface="Calibri"/>
              </a:rPr>
              <a:t> a été utilisé pour contacter d'autres agents de DarkHacker. Il vous informe également qu’une vaste opération de vente de codes PIN bancaires est prévue le lendemain à 17 heures en utilisant le même compte de messageri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EE098-BE91-43F0-97AB-AFF7F9A792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faire en sorte que HackMail Inc. conserve les données relatives au compte </a:t>
            </a:r>
            <a:r>
              <a:rPr b="1" lang="en-US" sz="2700" spc="-1" strike="noStrike" u="sng">
                <a:solidFill>
                  <a:srgbClr val="000000"/>
                </a:solidFill>
                <a:uFillTx/>
                <a:latin typeface="Calibri"/>
                <a:ea typeface="Calibri"/>
              </a:rPr>
              <a:t>fraud@hackmail.com</a:t>
            </a:r>
            <a:r>
              <a:rPr b="1" lang="en-US" sz="2700" spc="-1" strike="noStrike">
                <a:solidFill>
                  <a:srgbClr val="000000"/>
                </a:solidFill>
                <a:latin typeface="Calibri"/>
                <a:ea typeface="Calibri"/>
              </a:rPr>
              <a:t>?</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devez-vous prendre pour identifier d'autres prestataires de services impliqués dans la transmission de communications liées à l'arnaque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F82CD9-523E-4F20-80BF-568269EC0D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Boris vous informe que le compte </a:t>
            </a:r>
            <a:r>
              <a:rPr b="1" lang="en-US" sz="2700" spc="-1" strike="noStrike">
                <a:solidFill>
                  <a:srgbClr val="000000"/>
                </a:solidFill>
                <a:latin typeface="Calibri"/>
                <a:ea typeface="Calibri"/>
              </a:rPr>
              <a:t>fraud@hackmail.com</a:t>
            </a:r>
            <a:r>
              <a:rPr b="0" lang="en-US" sz="2700" spc="-1" strike="noStrike">
                <a:solidFill>
                  <a:srgbClr val="000000"/>
                </a:solidFill>
                <a:latin typeface="Calibri"/>
                <a:ea typeface="Calibri"/>
              </a:rPr>
              <a:t> a été utilisé pour </a:t>
            </a:r>
            <a:r>
              <a:rPr b="1" lang="en-US" sz="2700" spc="-1" strike="noStrike">
                <a:solidFill>
                  <a:srgbClr val="000000"/>
                </a:solidFill>
                <a:latin typeface="Calibri"/>
                <a:ea typeface="Calibri"/>
              </a:rPr>
              <a:t>contacter d'autres agents de DarkHacker</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 Conservation rapide de données informatiqu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 </a:t>
            </a:r>
            <a:r>
              <a:rPr b="0" lang="en-US" sz="2800" spc="-1" strike="noStrike">
                <a:solidFill>
                  <a:srgbClr val="000000"/>
                </a:solidFill>
                <a:latin typeface="Calibri"/>
              </a:rPr>
              <a:t>d’ordonner ou d’imposer d’une autre façon la </a:t>
            </a:r>
            <a:r>
              <a:rPr b="1" lang="en-US" sz="2800" spc="-1" strike="noStrike">
                <a:solidFill>
                  <a:srgbClr val="000000"/>
                </a:solidFill>
                <a:latin typeface="Calibri"/>
              </a:rPr>
              <a:t>conservation rapide de données stockées au moyen d’un système informatique</a:t>
            </a:r>
            <a:r>
              <a:rPr b="0" lang="en-US" sz="2800" spc="-1" strike="noStrike">
                <a:solidFill>
                  <a:srgbClr val="000000"/>
                </a:solidFill>
                <a:latin typeface="Calibri"/>
              </a:rPr>
              <a:t> se trouvant sur le territoire de cette autre Partie, et </a:t>
            </a:r>
            <a:r>
              <a:rPr b="1" lang="en-US" sz="2800" spc="-1" strike="noStrike">
                <a:solidFill>
                  <a:srgbClr val="000000"/>
                </a:solidFill>
                <a:latin typeface="Calibri"/>
              </a:rPr>
              <a:t>au sujet desquelles la Partie requérante a l’intention de soumettre une demande d’entraide en vue de la perquisition ou de l’accès par un moyen similaire, de la saisie ou de l’obtention par un moyen similaire, ou de la divulgation desdites donnée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4C644-3178-47D0-9F7F-FDDB6A3E62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F2C8E-18E4-4908-80E8-8412EB6406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82962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un agent des services de répression de Middle Earth, un petit pays voisin de deux autres pays: Rohan et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Vous êtes chargé d'enquêter sur des cybercrimes commis à Middle Earth. Au cours de votre enquête, vous êtes confronté à des questions portant su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matérie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 droit procédur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D’autres formes de coopération</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L’entraide judiciaire</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us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0" y="923760"/>
            <a:ext cx="91440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 Divulgation rapide de données conserv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orsque, </a:t>
            </a:r>
            <a:r>
              <a:rPr b="1" lang="en-US" sz="2800" spc="-1" strike="noStrike">
                <a:solidFill>
                  <a:srgbClr val="000000"/>
                </a:solidFill>
                <a:latin typeface="Calibri"/>
              </a:rPr>
              <a:t>en exécutant </a:t>
            </a:r>
            <a:r>
              <a:rPr b="0" lang="en-US" sz="2800" spc="-1" strike="noStrike">
                <a:solidFill>
                  <a:srgbClr val="000000"/>
                </a:solidFill>
                <a:latin typeface="Calibri"/>
              </a:rPr>
              <a:t>une demande de conservation de données relatives au trafic concernant une communication spécifique formulée en application de </a:t>
            </a:r>
            <a:r>
              <a:rPr b="1" lang="en-US" sz="2800" spc="-1" strike="noStrike">
                <a:solidFill>
                  <a:srgbClr val="000000"/>
                </a:solidFill>
                <a:latin typeface="Calibri"/>
              </a:rPr>
              <a:t>l’article 29</a:t>
            </a:r>
            <a:r>
              <a:rPr b="0" lang="en-US" sz="2800" spc="-1" strike="noStrike">
                <a:solidFill>
                  <a:srgbClr val="000000"/>
                </a:solidFill>
                <a:latin typeface="Calibri"/>
              </a:rPr>
              <a:t>, la Partie requise </a:t>
            </a:r>
            <a:r>
              <a:rPr b="1" lang="en-US" sz="2800" spc="-1" strike="noStrike">
                <a:solidFill>
                  <a:srgbClr val="000000"/>
                </a:solidFill>
                <a:latin typeface="Calibri"/>
              </a:rPr>
              <a:t>découvre qu’un fournisseur de services dans un autre Etat a participé à la transmission de cette communication</a:t>
            </a:r>
            <a:r>
              <a:rPr b="0" lang="en-US" sz="2800" spc="-1" strike="noStrike">
                <a:solidFill>
                  <a:srgbClr val="000000"/>
                </a:solidFill>
                <a:latin typeface="Calibri"/>
              </a:rPr>
              <a:t>, la Partie requise </a:t>
            </a:r>
            <a:r>
              <a:rPr b="1" lang="en-US" sz="2800" spc="-1" strike="noStrike">
                <a:solidFill>
                  <a:srgbClr val="000000"/>
                </a:solidFill>
                <a:latin typeface="Calibri"/>
              </a:rPr>
              <a:t>divulgue rapidement </a:t>
            </a:r>
            <a:r>
              <a:rPr b="0" lang="en-US" sz="2800" spc="-1" strike="noStrike">
                <a:solidFill>
                  <a:srgbClr val="000000"/>
                </a:solidFill>
                <a:latin typeface="Calibri"/>
              </a:rPr>
              <a:t>à la Partie requérante </a:t>
            </a:r>
            <a:r>
              <a:rPr b="1" lang="en-US" sz="2800" spc="-1" strike="noStrike">
                <a:solidFill>
                  <a:srgbClr val="000000"/>
                </a:solidFill>
                <a:latin typeface="Calibri"/>
              </a:rPr>
              <a:t>une quantité suffisante de données concernant le trafic, aux fins d’identifier ce fournisseur de services et la voie par laquelle la communication a été transmise</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ECD59-82A7-4978-972E-7BB683C6C2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0" y="324000"/>
            <a:ext cx="9144000" cy="6297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peut </a:t>
            </a:r>
            <a:r>
              <a:rPr b="1" lang="en-US" sz="2600" spc="-1" strike="noStrike">
                <a:solidFill>
                  <a:srgbClr val="000000"/>
                </a:solidFill>
                <a:latin typeface="Calibri"/>
              </a:rPr>
              <a:t>demander une entraide </a:t>
            </a:r>
            <a:r>
              <a:rPr b="0" lang="en-US" sz="2600" spc="-1" strike="noStrike">
                <a:solidFill>
                  <a:srgbClr val="000000"/>
                </a:solidFill>
                <a:latin typeface="Calibri"/>
              </a:rPr>
              <a:t>concernant la </a:t>
            </a:r>
            <a:r>
              <a:rPr b="1" lang="en-US" sz="2600" spc="-1" strike="noStrike">
                <a:solidFill>
                  <a:srgbClr val="000000"/>
                </a:solidFill>
                <a:latin typeface="Calibri"/>
              </a:rPr>
              <a:t>conservation accélérée de données spécifiées</a:t>
            </a:r>
            <a:r>
              <a:rPr b="0" lang="en-US" sz="2600" spc="-1" strike="noStrike">
                <a:solidFill>
                  <a:srgbClr val="000000"/>
                </a:solidFill>
                <a:latin typeface="Calibri"/>
              </a:rPr>
              <a:t> conformément à l'article 29 de la Convention de Budapest.  </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ourrait </a:t>
            </a:r>
            <a:r>
              <a:rPr b="1" lang="en-US" sz="2600" spc="-1" strike="noStrike">
                <a:solidFill>
                  <a:srgbClr val="000000"/>
                </a:solidFill>
                <a:latin typeface="Calibri"/>
              </a:rPr>
              <a:t>demander à Hack Mail Inc. de divulguer des données sur le trafic conservées afin d’identifier d'autres fournisseurs de services</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fonction du droit interne, Middle Earth </a:t>
            </a:r>
            <a:r>
              <a:rPr b="1" lang="en-US" sz="2600" spc="-1" strike="noStrike">
                <a:solidFill>
                  <a:srgbClr val="000000"/>
                </a:solidFill>
                <a:latin typeface="Calibri"/>
              </a:rPr>
              <a:t>n'a pas besoin de présenter une demande supplémentaire de divulgation de données sur le trafic</a:t>
            </a:r>
            <a:r>
              <a:rPr b="0" lang="en-US" sz="2600" spc="-1" strike="noStrike">
                <a:solidFill>
                  <a:srgbClr val="000000"/>
                </a:solidFill>
                <a:latin typeface="Calibri"/>
              </a:rPr>
              <a:t>. En effet, Rohan sera obligé de </a:t>
            </a:r>
            <a:r>
              <a:rPr b="1" lang="en-US" sz="2600" spc="-1" strike="noStrike">
                <a:solidFill>
                  <a:srgbClr val="000000"/>
                </a:solidFill>
                <a:latin typeface="Calibri"/>
              </a:rPr>
              <a:t>divulguer automatiquement et en quantité suffisante des données sur le trafic pour permettre l'identification d'autres fournisseurs de services s'il découvre leur implication</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76BBB-CF62-43AB-95F8-E256032DB4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47573-8AFA-4530-BBCB-D568F3EFC9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46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ea typeface="Calibri"/>
              </a:rPr>
              <a:t>Quelles mesures pouvez-vous prendre pour obtenir des données informatiques provenant du système informatique DarkHacker</a:t>
            </a:r>
            <a:r>
              <a:rPr b="1" lang="en-US" sz="2700" spc="-1" strike="noStrike">
                <a:solidFill>
                  <a:srgbClr val="ff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790A0-EB63-4284-AAB6-77C08BE225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Vous arrêtez Boris Smith dans ce pays et cette personne révèle l’endroit où se trouve le </a:t>
            </a:r>
            <a:r>
              <a:rPr b="1" lang="en-US" sz="2700" spc="-1" strike="noStrike">
                <a:solidFill>
                  <a:srgbClr val="000000"/>
                </a:solidFill>
                <a:latin typeface="Calibri"/>
                <a:ea typeface="Calibri"/>
              </a:rPr>
              <a:t>système informatique </a:t>
            </a:r>
            <a:r>
              <a:rPr b="0" lang="en-US" sz="2700" spc="-1" strike="noStrike">
                <a:solidFill>
                  <a:srgbClr val="000000"/>
                </a:solidFill>
                <a:latin typeface="Calibri"/>
                <a:ea typeface="Calibri"/>
              </a:rPr>
              <a:t>utilisé par DarkHacker au Rohan. </a:t>
            </a:r>
            <a:r>
              <a:rPr b="1" lang="en-US" sz="2700" spc="-1" strike="noStrike">
                <a:solidFill>
                  <a:srgbClr val="000000"/>
                </a:solidFill>
                <a:latin typeface="Calibri"/>
                <a:ea typeface="Calibri"/>
              </a:rPr>
              <a:t>L’arrestation de Boris n'étant pas publique</a:t>
            </a:r>
            <a:r>
              <a:rPr b="0" lang="en-US" sz="2700" spc="-1" strike="noStrike">
                <a:solidFill>
                  <a:srgbClr val="000000"/>
                </a:solidFill>
                <a:latin typeface="Calibri"/>
                <a:ea typeface="Calibri"/>
              </a:rPr>
              <a:t>, </a:t>
            </a:r>
            <a:r>
              <a:rPr b="1" lang="en-US" sz="2700" spc="-1" strike="noStrike">
                <a:solidFill>
                  <a:srgbClr val="000000"/>
                </a:solidFill>
                <a:latin typeface="Calibri"/>
                <a:ea typeface="Calibri"/>
              </a:rPr>
              <a:t>il n'y a aucune raison de penser que les données sont susceptibles d’être perdues ou modifié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162000" y="263520"/>
            <a:ext cx="8718480" cy="6458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 Entraide concernant l'accès aux données stockée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Une Partie peut </a:t>
            </a:r>
            <a:r>
              <a:rPr b="1" lang="en-US" sz="2800" spc="-1" strike="noStrike">
                <a:solidFill>
                  <a:srgbClr val="000000"/>
                </a:solidFill>
                <a:latin typeface="Calibri"/>
              </a:rPr>
              <a:t>demander à une autre Partie</a:t>
            </a:r>
            <a:r>
              <a:rPr b="0" lang="en-US" sz="2800" spc="-1" strike="noStrike">
                <a:solidFill>
                  <a:srgbClr val="000000"/>
                </a:solidFill>
                <a:latin typeface="Calibri"/>
              </a:rPr>
              <a:t> de perquisitionner ou d’accéder de façon similaire, </a:t>
            </a:r>
            <a:r>
              <a:rPr b="1" lang="en-US" sz="2800" spc="-1" strike="noStrike">
                <a:solidFill>
                  <a:srgbClr val="000000"/>
                </a:solidFill>
                <a:latin typeface="Calibri"/>
              </a:rPr>
              <a:t>de saisir ou d’obtenir de façon similaire</a:t>
            </a:r>
            <a:r>
              <a:rPr b="0" lang="en-US" sz="2800" spc="-1" strike="noStrike">
                <a:solidFill>
                  <a:srgbClr val="000000"/>
                </a:solidFill>
                <a:latin typeface="Calibri"/>
              </a:rPr>
              <a:t>, de </a:t>
            </a:r>
            <a:r>
              <a:rPr b="1" lang="en-US" sz="2800" spc="-1" strike="noStrike">
                <a:solidFill>
                  <a:srgbClr val="000000"/>
                </a:solidFill>
                <a:latin typeface="Calibri"/>
              </a:rPr>
              <a:t>divulguer des données</a:t>
            </a:r>
            <a:r>
              <a:rPr b="0" lang="en-US" sz="2800" spc="-1" strike="noStrike">
                <a:solidFill>
                  <a:srgbClr val="000000"/>
                </a:solidFill>
                <a:latin typeface="Calibri"/>
              </a:rPr>
              <a:t> stockées au moyen d'un système informatique se trouvant sur le territoire de cette autre Partie, y compris les données conservées conformément à l'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La demande doit être satisfaite </a:t>
            </a:r>
            <a:r>
              <a:rPr b="1" lang="en-US" sz="2800" spc="-1" strike="noStrike">
                <a:solidFill>
                  <a:srgbClr val="000000"/>
                </a:solidFill>
                <a:latin typeface="Calibri"/>
              </a:rPr>
              <a:t>aussi rapidement que possible</a:t>
            </a:r>
            <a:r>
              <a:rPr b="0" lang="en-US" sz="2800" spc="-1" strike="noStrike">
                <a:solidFill>
                  <a:srgbClr val="000000"/>
                </a:solidFill>
                <a:latin typeface="Calibri"/>
              </a:rPr>
              <a:t> dans les cas suivant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Il existe des </a:t>
            </a:r>
            <a:r>
              <a:rPr b="1" lang="en-US" sz="2800" spc="-1" strike="noStrike">
                <a:solidFill>
                  <a:srgbClr val="000000"/>
                </a:solidFill>
                <a:latin typeface="Calibri"/>
              </a:rPr>
              <a:t>raisons de penser que les données pertinentes sont particulièrement susceptibles de perte ou de modification</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56E0A-65B1-4561-84F0-3A750995A0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Middle Earth peut formuler une </a:t>
            </a:r>
            <a:r>
              <a:rPr b="1" lang="en-US" sz="2900" spc="-1" strike="noStrike">
                <a:solidFill>
                  <a:srgbClr val="000000"/>
                </a:solidFill>
                <a:latin typeface="Calibri"/>
              </a:rPr>
              <a:t>demande d'entraide pour que Rohan saisisse et sécurise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mais aussi une </a:t>
            </a:r>
            <a:r>
              <a:rPr b="1" lang="en-US" sz="2900" spc="-1" strike="noStrike">
                <a:solidFill>
                  <a:srgbClr val="000000"/>
                </a:solidFill>
                <a:latin typeface="Calibri"/>
              </a:rPr>
              <a:t>demande de divulgation des données informatiques obtenues </a:t>
            </a:r>
            <a:r>
              <a:rPr b="0" lang="en-US" sz="2900" spc="-1" strike="noStrike">
                <a:solidFill>
                  <a:srgbClr val="000000"/>
                </a:solidFill>
                <a:latin typeface="Calibri"/>
              </a:rPr>
              <a:t>à la suite de l'action visant à saisir et sécuriser l'ordinateur DarkHack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En fonction du droit interne, </a:t>
            </a:r>
            <a:r>
              <a:rPr b="1" lang="en-US" sz="2900" spc="-1" strike="noStrike">
                <a:solidFill>
                  <a:srgbClr val="000000"/>
                </a:solidFill>
                <a:latin typeface="Calibri"/>
              </a:rPr>
              <a:t>si les données ne sont pas susceptibles de perte ou de modification, Middle Earth n’est peut-être pas en mesure de demander une procedure accélérée</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337AFE-D341-4357-A7A1-5EE3CC007C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B0BCA-E1CF-4F28-8645-DCA2C155FD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Calibri"/>
              </a:rPr>
              <a:t>Quelles mesures pouvez-vous prendre pour localiser le client DarkHacker qui envisage d'acheter des codes PIN banca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54BE3-734C-4F45-B628-CC96643E1D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Il vous informe également qu’une </a:t>
            </a:r>
            <a:r>
              <a:rPr b="1" lang="en-US" sz="2700" spc="-1" strike="noStrike">
                <a:solidFill>
                  <a:srgbClr val="000000"/>
                </a:solidFill>
                <a:latin typeface="Calibri"/>
                <a:ea typeface="Calibri"/>
              </a:rPr>
              <a:t>vaste opération de vente de codes PIN bancaires est prévue </a:t>
            </a:r>
            <a:r>
              <a:rPr b="0" lang="en-US" sz="2700" spc="-1" strike="noStrike">
                <a:solidFill>
                  <a:srgbClr val="000000"/>
                </a:solidFill>
                <a:latin typeface="Calibri"/>
                <a:ea typeface="Calibri"/>
              </a:rPr>
              <a:t>le lendemain </a:t>
            </a:r>
            <a:r>
              <a:rPr b="1" lang="en-US" sz="2700" spc="-1" strike="noStrike">
                <a:solidFill>
                  <a:srgbClr val="000000"/>
                </a:solidFill>
                <a:latin typeface="Calibri"/>
                <a:ea typeface="Calibri"/>
              </a:rPr>
              <a:t>à 17 heures en utilisant le même compte de messagerie</a:t>
            </a:r>
            <a:r>
              <a:rPr b="0" lang="en-US"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Entraide dans la collecte en temps réel de données relatives au trafic</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Les Parties s’accordent </a:t>
            </a:r>
            <a:r>
              <a:rPr b="1" lang="en-US" sz="2800" spc="-1" strike="noStrike">
                <a:solidFill>
                  <a:srgbClr val="000000"/>
                </a:solidFill>
                <a:latin typeface="Calibri"/>
              </a:rPr>
              <a:t>l’entraide</a:t>
            </a:r>
            <a:r>
              <a:rPr b="0" lang="en-US" sz="2800" spc="-1" strike="noStrike">
                <a:solidFill>
                  <a:srgbClr val="000000"/>
                </a:solidFill>
                <a:latin typeface="Calibri"/>
              </a:rPr>
              <a:t> dans la </a:t>
            </a:r>
            <a:r>
              <a:rPr b="1" lang="en-US" sz="2800" spc="-1" strike="noStrike">
                <a:solidFill>
                  <a:srgbClr val="000000"/>
                </a:solidFill>
                <a:latin typeface="Calibri"/>
              </a:rPr>
              <a:t>collecte en temps réel de données relatives au trafic</a:t>
            </a:r>
            <a:r>
              <a:rPr b="0" lang="en-US" sz="2800" spc="-1" strike="noStrike">
                <a:solidFill>
                  <a:srgbClr val="000000"/>
                </a:solidFill>
                <a:latin typeface="Calibri"/>
              </a:rPr>
              <a:t>, associées à des </a:t>
            </a:r>
            <a:r>
              <a:rPr b="1" lang="en-US" sz="2800" spc="-1" strike="noStrike">
                <a:solidFill>
                  <a:srgbClr val="000000"/>
                </a:solidFill>
                <a:latin typeface="Calibri"/>
              </a:rPr>
              <a:t>communications spécifiées</a:t>
            </a:r>
            <a:r>
              <a:rPr b="0" lang="en-US" sz="2800" spc="-1" strike="noStrike">
                <a:solidFill>
                  <a:srgbClr val="000000"/>
                </a:solidFill>
                <a:latin typeface="Calibri"/>
              </a:rPr>
              <a:t> sur leur territoire, transmises au moyen d’un système informatique.</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1708E-ACFF-47D8-A413-6FBB7B46D8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peut </a:t>
            </a:r>
            <a:r>
              <a:rPr b="1" lang="en-US" sz="2600" spc="-1" strike="noStrike">
                <a:solidFill>
                  <a:srgbClr val="000000"/>
                </a:solidFill>
                <a:latin typeface="Calibri"/>
              </a:rPr>
              <a:t>demander une entraide concernant la collecte en temps réel des données de trafic </a:t>
            </a:r>
            <a:r>
              <a:rPr b="0" lang="en-US" sz="2600" spc="-1" strike="noStrike">
                <a:solidFill>
                  <a:srgbClr val="000000"/>
                </a:solidFill>
                <a:latin typeface="Calibri"/>
              </a:rPr>
              <a:t>concernant la communication spécifiée à 17 heures le jour suivan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on la législation nationale en vigueur, Mordor </a:t>
            </a:r>
            <a:r>
              <a:rPr b="1" lang="en-US" sz="2600" spc="-1" strike="noStrike">
                <a:solidFill>
                  <a:srgbClr val="000000"/>
                </a:solidFill>
                <a:latin typeface="Calibri"/>
              </a:rPr>
              <a:t>sera tenu de fournir cette entraide</a:t>
            </a:r>
            <a:r>
              <a:rPr b="0" lang="en-US" sz="2600" spc="-1" strike="noStrike">
                <a:solidFill>
                  <a:srgbClr val="000000"/>
                </a:solidFill>
                <a:latin typeface="Calibri"/>
              </a:rPr>
              <a:t> </a:t>
            </a:r>
            <a:r>
              <a:rPr b="1" lang="en-US" sz="2600" spc="-1" strike="noStrike">
                <a:solidFill>
                  <a:srgbClr val="000000"/>
                </a:solidFill>
                <a:latin typeface="Calibri"/>
              </a:rPr>
              <a:t>si ce pouvoir existe dans un cas domestique similaire</a:t>
            </a:r>
            <a:r>
              <a:rPr b="0" lang="en-US" sz="2600" spc="-1" strike="noStrike">
                <a:solidFill>
                  <a:srgbClr val="000000"/>
                </a:solidFill>
                <a:latin typeface="Calibri"/>
              </a:rPr>
              <a:t>.</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80BDC-498F-47FE-B4B4-9DBCDACCD8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F4683-22E0-4F36-B518-209A994250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Vous recevez un rapport d'information qui indique que les lecteurs de données des systèmes informatiques d'une institution financière de renom ont été piratés par des cybercriminels inconnus et que des logiciels malveillants qui augmentent la taille du curseur de la souris ont été installés sur ces systèmes. Votre enquête suggère que le logiciel malveillant a été créé par un groupe de « hackers » opérant sur un forum appelé « DarkHacker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tie VI</a:t>
            </a:r>
            <a:br>
              <a:rPr sz="4000"/>
            </a:br>
            <a:r>
              <a:rPr b="0" lang="en-US" sz="4000" spc="-1" strike="noStrike">
                <a:solidFill>
                  <a:srgbClr val="000000"/>
                </a:solidFill>
                <a:latin typeface="Calibri"/>
              </a:rPr>
              <a:t>Récapitulatif</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D55CA-5AFA-4D43-A8AF-EA587765EE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écapitulatif</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u terme de la présente session, les participants pourron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Faire référence au droit matériel, au droit procédural et aux dispositions de la Convention de Budapest relatives à la coopération internationale visées dans le cours d'introduc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quer la portée et l'étendue du droit matériel, du droit procédural et des dispositions relatives à la coopération internationale de la Convention de Budapes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Comprendre comment les dispositions de la Convention de Budapest et les législations nationales correspondantes s'appliquent aux études de cas examiné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2F8067-9F28-4295-A054-E338DFCDDA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7A697-AFE0-4959-A264-8F6410AEBA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93A11-D727-4F11-AD4F-B23C5E644A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380880" y="984240"/>
            <a:ext cx="830592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ne enquête plus poussée révèle que le logiciel de traduction, qui est principalement conçu pour pirater les ordinateurs, est également vendu par DarkHacker avec le slogan « Achetez notre logiciel de traduction et demander à des amis de l'installer, vous pourrez ainsi  accéder à leurs ordinateurs sans autorisation!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our tenter d'identifier les personnes qui exploitent DarkHacker, vous effectuez une opération secréte pour obtenir des codes d'accès aux systèmes informatiq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rozeboom.christian</cp:lastModifiedBy>
  <dcterms:modified xsi:type="dcterms:W3CDTF">2018-05-31T17:38:51Z</dcterms:modified>
  <cp:revision>561</cp:revision>
  <dc:subject/>
  <dc:title>Introductory Cybercrime Training for Judges and Prosecutors</dc:title>
</cp:coreProperties>
</file>